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1E6-56C0-429C-A175-E88F4EAA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891F-8F93-4CE3-A63C-DC917C73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6FE9-74F1-4C51-9077-996C5DE0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925A-55A6-4E10-81A0-62E91A0A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AD44-7093-4FB8-AF5C-37DA330A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6C68-3D10-4F08-9279-1683D4DD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2256-7454-4558-A3BF-4C8B8FEF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1913-E811-466C-812E-8D539E63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994E-EB28-49B5-A6A6-01088471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79F5-3296-4263-BD20-A65E560A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7155-CE43-4C96-B9B6-53EF7533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94C-7A37-413C-A4AF-C25BF627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8E28-4BC8-427A-A24B-A374E0715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icare Part B Therapy, 1998-2000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ends in Utilization and Medicar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yment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2640" y="2666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d for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y Kay, Di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tioner and Ambulatory Care Divi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ers for Medicare and Medicaid Servic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timore,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hanie Maxwell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ban Instit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1143000" cy="6858000"/>
            <a:chOff x="0" y="0"/>
            <a:chExt cx="1143000" cy="685800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" name=""/>
            <p:cNvGraphicFramePr/>
            <p:nvPr/>
          </p:nvGraphicFramePr>
          <p:xfrm>
            <a:off x="0" y="0"/>
            <a:ext cx="1143000" cy="11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143000" cy="11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" name=""/>
            <p:cNvSpPr/>
            <p:nvPr/>
          </p:nvSpPr>
          <p:spPr>
            <a:xfrm rot="5400000">
              <a:off x="-1297440" y="2552040"/>
              <a:ext cx="373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 URBAN INSTITU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1: Part B therapy patient average annual expenditures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 setting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280" y="838080"/>
          <a:ext cx="842832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42832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28600" y="6141960"/>
            <a:ext cx="7315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2: Part B therapy patient annual utilization, by setting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838080"/>
          <a:ext cx="842832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42832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28600" y="6141960"/>
            <a:ext cx="7315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3: Distribution of Part B therapy expenditures and patients, by setting, 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7360" y="1525680"/>
          <a:ext cx="4378320" cy="35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525680"/>
                    <a:ext cx="437832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384800" y="1523880"/>
          <a:ext cx="4378320" cy="355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4800" y="1523880"/>
                    <a:ext cx="4378320" cy="35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915840" y="56386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 B therapy expendi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78320" y="56386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 B therapy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141960"/>
            <a:ext cx="7315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4: Distribution of Part B therapy patients exceeding $1,200 PT/SLP or $1,200 OT annual expenditures, by setting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8160" y="1109520"/>
          <a:ext cx="4076640" cy="27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0" y="1109520"/>
                    <a:ext cx="407664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28600" y="6141960"/>
            <a:ext cx="86868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 PT is physical therapy. SLP is speech/language pathology services. OT is occupational therap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440080" y="3505320"/>
          <a:ext cx="4075200" cy="277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40080" y="3505320"/>
                    <a:ext cx="407520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878360" y="1143000"/>
          <a:ext cx="4075200" cy="277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8360" y="1143000"/>
                    <a:ext cx="407520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1695600" y="4038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95720" y="2971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34000" y="3962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5: Percent of Part B therapy patients exceeding $1,200 PT/SLP or $1,200 OT annual expenditures, by setting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280" y="838080"/>
          <a:ext cx="842832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42832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6141960"/>
            <a:ext cx="86868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 PT is physical therapy. SLP is speech/language pathology services. OT is occupational therap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6: Distribution of total PT/SLP expenditures of patients exceeding $1,200 PT/SLP annually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280" y="838080"/>
          <a:ext cx="842832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42832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28600" y="6276960"/>
            <a:ext cx="7315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Figure includes patients using facility-based therapy.  PT is physical therapy. SLP is speech/language pathology servi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5:51:36Z</dcterms:created>
  <dc:creator>Matthew Storeygard</dc:creator>
  <dc:description/>
  <dc:language>en-US</dc:language>
  <cp:lastModifiedBy>CMS</cp:lastModifiedBy>
  <cp:lastPrinted>2001-11-12T15:07:12Z</cp:lastPrinted>
  <dcterms:modified xsi:type="dcterms:W3CDTF">2003-01-29T17:08:33Z</dcterms:modified>
  <cp:revision>64</cp:revision>
  <dc:subject/>
  <dc:title>Vulnerability Status by Age, 1996</dc:title>
</cp:coreProperties>
</file>