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0B55-06F0-4F0A-BBC7-35476E35D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0DC4-C198-443E-A823-CF0360733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CCAA-5A1A-4DC3-AB67-47342E383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51BD-25E0-418F-BFCB-D46668D74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4EF1-282C-42DA-8E51-8276D75E8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03A8-3851-4D44-90D6-F08E42569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49A0-EC65-46E7-8AC4-CC55320DA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E80F-332B-421B-B41D-6506FE134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025F-A3B0-4DAF-947A-540709F31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91FB-1F7E-4199-8858-41C0A6439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1AE8-7A1C-4FEE-BBB4-173C153E5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335A-D4AC-4CFA-820C-A0414C54D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940DA-7AF5-4F00-A93D-55653EEEAC0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cms.hhs.gov/ICD10/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16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S-DRG Conversion Upd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90720" y="3580920"/>
            <a:ext cx="72388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nice Bonazelli, 3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honda Butler, 3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CD-9-CM Coordination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tenance Committe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ch 11,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S-DRGs Conversion Summ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434340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fixed, manageable number of lists in MS-DR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GEMs produce 95% of the mapping without any need for re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maining 5% is based on MDC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for review of the remaining MDCs is expected to steadily decre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the rules derived for MDC 6 are applied to the remaining MDCs, fewer codes need clinical re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143000" y="990720"/>
          <a:ext cx="6786720" cy="3216240"/>
        </p:xfrm>
        <a:graphic>
          <a:graphicData uri="http://schemas.openxmlformats.org/drawingml/2006/table">
            <a:tbl>
              <a:tblPr/>
              <a:tblGrid>
                <a:gridCol w="2819520"/>
                <a:gridCol w="1639800"/>
                <a:gridCol w="1671480"/>
                <a:gridCol w="655920"/>
              </a:tblGrid>
              <a:tr h="44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agnosis code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cedure code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. of unique lists in MS-DRG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~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~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~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des in MDC 6 list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uto-replaced by GEM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des in MDC 6  list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uto-replaced by GEMs a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dified by clinical review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des in remaining MDC list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uto-replaced by GEMs a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dified by clinical review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&lt;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&lt;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&lt;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ssues Discovered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 Converting MS-DR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ly broad I-9 procedure c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ck of anatomic specificity, NOS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list-specific criteria for identifying the appropriate anatomic subset of PCS codes that belong on a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-9 code confli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an I-10 code does not contain a distinction found in two or more I-9 codes, all the I-9 codes are mapped to the same I-10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onflict exists if the I-9 codes are in different MS-DR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to be expected between code sets with significant differences in design and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791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verly Broad I-9 Procedure Co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37339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 an I-9 procedure code be replaced with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ssociated PCS code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verywhe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 I-9 code is list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PCS code may be irrelevant to a list because of its anatomic or root operation specifi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200 overly broad I-9 procedure codes ident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7960" y="2057400"/>
            <a:ext cx="4343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verly Broad I-9 C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-9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cri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2.2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dioactive elem impl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6.0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kin &amp; subq incision N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3.8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scle or fascia gra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1.9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repair of j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0.1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arthrotomy NE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7.1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ne incis w/o div NE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9.5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gio oth non-coron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9.3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ture of art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9.2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sc shunt &amp; bypass N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8.2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ood vessel biop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1.2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cranioto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4.0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ipheral nerve incis N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324480" y="380880"/>
            <a:ext cx="1981440" cy="1524240"/>
          </a:xfrm>
          <a:prstGeom prst="wedgeRoundRectCallout">
            <a:avLst>
              <a:gd name="adj1" fmla="val 20032"/>
              <a:gd name="adj2" fmla="val 12135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ecause PCS codes always specify body part, approach and device, 261 PCS codes are translated to 92.27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olution for I-9 Overly Broad Procedure Co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mit the assignment of PCS codes associated with overly broad I-9 codes to anatomic sites corresponding to each MD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DC 6 Example: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S-DRGs 356, 357, 358 Other Digestive System O.R. Procedures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92.27 Implantation or Insertion of Radioactive Elem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procedure 92.27, only 10 of the 261 PCS codes are assigned to MDC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28600" y="3429000"/>
            <a:ext cx="3886200" cy="312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kel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n MDC 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0DH571Z Insertion of Radioactive Element into Esophagus, Via Natural or Artificial Ope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0DHP81Z Insertion of Radioactive Element into Rectum, Via Natural or Artificial Opening Endoscop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343400" y="3429000"/>
            <a:ext cx="4648320" cy="312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tremely Unlikel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n MDC 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08H0X1Z Insertion of Radioactive Element into Right Eye, External Approa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0BHL01Z Insertion of Radioactive Element into Left Lung, Open Approa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0HHU31Z Insertion of Radioactive Element into Left Breast, Percutaneous Approa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-9 Code Confli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-9 codes may contain detail not pertinent to current understanding of disease or to a PCS axis of class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-9 diagnosis codes may use outmoded termi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-9 procedure codes may include diagnosis information (e.g., drainage of a cyst, drainage of an abs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such cases, the I-10 code is assigned to the I-9 code that results in the most appropriate MS-DRG assig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7631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-9 Code Conflicts </a:t>
            </a:r>
            <a:br>
              <a:rPr sz="40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flic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here an I-10 code is assigned to more than one I-9 cod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I-9 codes are assigned to different MS-DR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3733920" cy="259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09.89 Other specifie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heumatic hear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ise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heumatic disease of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monary val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29200" y="2057040"/>
            <a:ext cx="3657600" cy="350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398.99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ther rheumatic hear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ise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DC 5 DRG 314,315,316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circulatory system diagnoses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397.1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heumatic diseases of pulmonary val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DC 5 DRG 306,30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diac congenital &amp; valvular dis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2120" y="3886200"/>
            <a:ext cx="2743200" cy="1676520"/>
          </a:xfrm>
          <a:prstGeom prst="wedgeRectCallout">
            <a:avLst>
              <a:gd name="adj1" fmla="val -45138"/>
              <a:gd name="adj2" fmla="val -23009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09.89 combines the descriptions of two I-9 codes. All other rheumatic diseases of the heart currently classified have unique codes in ICD-10-CM, and according to frequency data I-9 code 398.99 is rarely us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09880" y="5486400"/>
            <a:ext cx="2971800" cy="1143000"/>
          </a:xfrm>
          <a:prstGeom prst="wedgeRectCallout">
            <a:avLst>
              <a:gd name="adj1" fmla="val -1069"/>
              <a:gd name="adj2" fmla="val -16222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o resolve the conflict for I-10 code I09.89, the I-10 code is assigned to the I-9 code 397.1, which results in the most appropriate MS-DRG assign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rot="8074200">
            <a:off x="4190760" y="2819160"/>
            <a:ext cx="981000" cy="936720"/>
          </a:xfrm>
          <a:custGeom>
            <a:avLst/>
            <a:gdLst>
              <a:gd name="textAreaLeft" fmla="*/ 281520 w 981000"/>
              <a:gd name="textAreaRight" fmla="*/ 840240 w 981000"/>
              <a:gd name="textAreaTop" fmla="*/ 539640 h 936720"/>
              <a:gd name="textAreaBottom" fmla="*/ 802440 h 93672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G Logic Cha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general, MS-DRG conversion involves replacing lists of I-9 codes without changing underlying DRG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a few cases, DRG logic for I-10 MS-DRGs must be modified in order t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plic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I-9 DRG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xample: Radical Pancreaticoduodenecto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609480" y="3276720"/>
          <a:ext cx="8097840" cy="3281400"/>
        </p:xfrm>
        <a:graphic>
          <a:graphicData uri="http://schemas.openxmlformats.org/drawingml/2006/table">
            <a:tbl>
              <a:tblPr/>
              <a:tblGrid>
                <a:gridCol w="2819520"/>
                <a:gridCol w="2666880"/>
                <a:gridCol w="1111320"/>
                <a:gridCol w="150012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-10 Procedure co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places I-9 procedure co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MS-DR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gic Change to replicate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FTG0ZZ Resection of Pancreas, Open Approa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6 Total Pancreatectomy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5-4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DT90ZZ Resection of Duodenum, Open Approach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2 Other Partial Resection Of Small Intesti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9-33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FTG0ZZ Resection of Pancreas, Open Approa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DT90ZZ Resection of Duodenum, Open Approa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7 Radical Pancreaticoduodenectom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6-3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sion of ICD-9 based systems and processes to ICD-10 is straightforw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Ms facilitate conver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sion of MS-DRGs to ICD-10 codes well under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al DRGs converted and initial review compl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rgical DRGs auto-replaced by GEMs, translations being reviewed and finaliz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endices still to be conver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liminary version slated for internal CMS review beginning October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CD-10 MS-DRGs definitions manual to be posted on CMS website with the annual ICD-10 update at the end of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l version of MS-DRGs using ICD-10 codes will be subject to the rule-making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CD-10 MS-DRG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efinitions Manu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at Op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CD-10 MS-DRG Definitions Manu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DC 06 currently posted in two different form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ensed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tional format options avail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k public feedback on preferred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d comments to C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38052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S-DRGs conversion proces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S-DRG ICD-10 conversion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rsion of all medical DRGs is comple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rsion of surgical DRGs is under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endices still to be conver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l ICD-10 version of MS-DRGs will be subject to rulema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D-10 MS-DRG definitions manual format op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CD-10 MS-DRG Convers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is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s all ICD-10 codes with their full descri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219320" y="1981080"/>
            <a:ext cx="6553080" cy="4372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ndensed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s ICD-10 codes in condensed notation, followed by number of codes inclu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371600" y="2409840"/>
            <a:ext cx="5943600" cy="4201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CS Option: Table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s ICD-10-PCS codes in table format, includes total number of c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295280" y="2612880"/>
            <a:ext cx="6782040" cy="3730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CS Option: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oot Operation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ensed description organized by root operation, includes total number of c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761760" y="2514600"/>
            <a:ext cx="7924680" cy="3611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jor Small and Large Bowel Procedures  1483 ICD-10-PCS c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Bypa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tering the route of passage of the contents of a tubular body pa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uodenum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D19***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1 cod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mall Intestine Reg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D1[AB]***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30 cod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rge Intestine Reg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D1[HKLMN][0348][7JKZ][4HKLMNP]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03 cod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il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xpanding an orifice or the lumen of a tubular body pa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mall Intestine, All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D78[034][DZ]Z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 cod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uodenum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D79[034][DZ]Z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 cod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mall Intestine Reg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D7[AB][034][DZ]Z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 cod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leocecal Valv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D7C[034][DZ]Z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 cod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rge Intestine, All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D7E[034][DZ]Z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 cod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CS Option: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ody Par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ensed description organized by body part, includes total number of c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685800" y="2514600"/>
            <a:ext cx="76960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jor Small and Large Bowel Procedures  1483 ICD-10-PCS co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mall Intestine, Al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lation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D78[034][DZ]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 cod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gmentation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DF8[03478]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 cod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Duodenu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ypas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D19***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1 cod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lation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D79[034][DZ]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 cod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ision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DB97ZZ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gmentation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DF9[03478]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 cod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mall Intestine Reg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ypas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D1[AB]***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30 cod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lation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D7[AB][034][DZ]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2 cod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gmentation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DF[AB][03478]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 cod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Ileocecal Valv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lation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D7C[034][DZ]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 cod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Large Intestine, Al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lation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D7E[034][DZ]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 cod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ision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DBE[0348]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 cod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gmentation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DFE[03478]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 cod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mment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71600" y="15998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d feedback on the MS-DRGs I-10 definitions format to C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465200" y="2895480"/>
            <a:ext cx="6213600" cy="3230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D-10 MS-DRGs definitions manual to be posted on CMS website with the annual ICD-10 update at the end of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S ICD-10 website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cms.hhs.gov/ICD10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version of MS-DRGs using ICD-10 codes will be subject to the rule-making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densed ICD-10 Descrip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this present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may contain condensed codes and descri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ICD-10 Codes—An asterisk (*) means all valid possibilities for codes in that category or subcategory are inclu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00* Cholera (3 cod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three ICD-10-CM cholera codes apply to the 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CD-10-PCS Codes—All valid possibilities for an axis of classification are displayed in square brac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0DN9[034]ZZ Release Duodenum (3 cod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three ICD-10-PCS approaches apply to the 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S-DRG Conversion Go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d in I-9 or I-10, the same patient is assigned to the same MS-DR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nically equival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tions manual has familiar look and fe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DC 6, DISEASES &amp; DISORDERS OF THE DIGESTIVE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00*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lera (3 cod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020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lmonella enterit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03*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higellosis (6 cod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04*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 bacterial intestinal infections (10 cod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050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dborne staphylococcal intox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052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dborne Clostridium perfringens [Clostridium welchii] intox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053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dborne Vibrio parahaemolyticus intox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054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dborne Bacillus cereus intox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055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dborne Vibrio vulnificus intox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058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 specified bacterial foodborne intoxic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059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cterial foodborne intoxication, unspecifi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S-DRG Conversion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only I-10 cod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licates current DRG log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or departures where necess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190760" y="1828440"/>
            <a:ext cx="472428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RG 335 Peritoneal adhesiolysis w MC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RG 336 Peritoneal adhesiolysis w C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RG 337 Peritoneal adhesiolysis w/o CC/MC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perating Room Procedu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8[0234]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Small Intestine (4 cod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9[0234]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Duodenum (4 cod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A[0234]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Jejunum (4 cod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B[0234]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Ileum (4 cod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C[034]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Ileocecal Valve (3 cod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[EFG][0234]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Large Intestine (12 cod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H[0234]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Cecum (4 cod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J[0234]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Appendix (4 cod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K[0234]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Ascending Colon (4 cod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L[0234]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Transverse Colon (4 cod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M[0234]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Descending Colon (4 cod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N[0234]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Sigmoid Colon (4 cod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[ST]***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Omentum (6 cod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V***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Mesentery (3 cod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W***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Peritoneum (3 cod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5105160" y="1752120"/>
            <a:ext cx="3733560" cy="30481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ver possible, assign an I-10 code to the same DRG(s) as the I-9 code it was translated to in the I-10 to I-9 G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28600" y="3886200"/>
            <a:ext cx="4495680" cy="2792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5" name=""/>
          <p:cNvSpPr/>
          <p:nvPr/>
        </p:nvSpPr>
        <p:spPr>
          <a:xfrm>
            <a:off x="4191120" y="5638680"/>
            <a:ext cx="2286000" cy="304920"/>
          </a:xfrm>
          <a:prstGeom prst="wedgeRectCallout">
            <a:avLst>
              <a:gd name="adj1" fmla="val -72777"/>
              <a:gd name="adj2" fmla="val -13018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CD-10 definitions manu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3428640" y="274320"/>
            <a:ext cx="525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S-DRG Conversion Princi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609480" y="1108080"/>
            <a:ext cx="3733920" cy="2449440"/>
          </a:xfrm>
          <a:prstGeom prst="rect">
            <a:avLst/>
          </a:prstGeom>
          <a:ln w="9360">
            <a:solidFill>
              <a:srgbClr val="000000"/>
            </a:solidFill>
            <a:prstDash val="lgDash"/>
            <a:miter/>
          </a:ln>
        </p:spPr>
      </p:pic>
      <p:sp>
        <p:nvSpPr>
          <p:cNvPr id="58" name=""/>
          <p:cNvSpPr/>
          <p:nvPr/>
        </p:nvSpPr>
        <p:spPr>
          <a:xfrm>
            <a:off x="380880" y="304920"/>
            <a:ext cx="2590920" cy="304560"/>
          </a:xfrm>
          <a:prstGeom prst="wedgeRectCallout">
            <a:avLst>
              <a:gd name="adj1" fmla="val 38111"/>
              <a:gd name="adj2" fmla="val 232814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CD-10 to ICD-9 GEM ent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rot="17621400">
            <a:off x="3605040" y="2490480"/>
            <a:ext cx="1295280" cy="1343160"/>
          </a:xfrm>
          <a:custGeom>
            <a:avLst/>
            <a:gdLst>
              <a:gd name="textAreaLeft" fmla="*/ 226440 w 1295280"/>
              <a:gd name="textAreaRight" fmla="*/ 939240 w 1295280"/>
              <a:gd name="textAreaTop" fmla="*/ 179640 h 1343160"/>
              <a:gd name="textAreaBottom" fmla="*/ 1163520 h 134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nd and Replace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agnosis Co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980720"/>
            <a:ext cx="266688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RG385 INFLAMMATORY BOWEL DISEASE W MC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RG386 INFLAMMATORY BOWEL DISEASE W C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RG387 INFLAMMATORY BOWEL DISEASE W/O CC/MC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NCIPAL DIAGN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550 Reg enteritis, sm in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551 Reg enteritis, lg in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552 Reg enterit sm/lg in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559 Regional enteritis N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200040" y="1676160"/>
            <a:ext cx="571500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RG 385 Inflammatory bowel disease w MC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RG 386 Inflammatory bowel disease w C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RG 387 Inflammatory bowel disease w/o CC/MC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incipal Diagn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00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small intestine without com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011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small intestine with rectal blee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012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small intestine with intestinal obstr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013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small intestine with fist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014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small intestine with abs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018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small intestine with other com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019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small intestine with unspecified com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10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large intestine without com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111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large intestine with rectal blee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112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large intestine with intestinal obstr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113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large intestine with fist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114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large intestine with abs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118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large intestine with other com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119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large intestine with unspecified com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80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both small and large intestine without com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811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both small and large intestine with rectal blee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812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both small and large intestine with intestinal obstr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813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both small and large intestine with fist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814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both small and large intestine with abs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818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both small and large intestine with other com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523880"/>
            <a:ext cx="2286000" cy="304920"/>
          </a:xfrm>
          <a:prstGeom prst="wedgeRectCallout">
            <a:avLst>
              <a:gd name="adj1" fmla="val 416"/>
              <a:gd name="adj2" fmla="val 402606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# of ICD-10-CM codes: 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133720" y="2666880"/>
            <a:ext cx="1676160" cy="990720"/>
          </a:xfrm>
          <a:custGeom>
            <a:avLst/>
            <a:gdLst>
              <a:gd name="textAreaLeft" fmla="*/ 261720 w 1676160"/>
              <a:gd name="textAreaRight" fmla="*/ 1466640 w 167616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s replaced 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4572000"/>
            <a:ext cx="2286000" cy="304920"/>
          </a:xfrm>
          <a:prstGeom prst="wedgeRectCallout">
            <a:avLst>
              <a:gd name="adj1" fmla="val -47361"/>
              <a:gd name="adj2" fmla="val -181773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# of ICD-9-CM codes: 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nd and Replace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cedure Co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3048120" cy="2209680"/>
          </a:xfrm>
          <a:prstGeom prst="rec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RG335 PERITONEAL ADHESIOLYSIS W MC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RG336 PERITONEAL ADHESIOLYSIS W C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RG337 PERITONEAL ADHESIOLYSIS W/O CC/MC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ROOM PROCEDU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451 Lap periton adhesio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459 Oth periton adhesio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580920" y="1523880"/>
            <a:ext cx="5410440" cy="518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RG 335 Peritoneal adhesiolysis w MC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RG 336 Peritoneal adhesiolysis w C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RG 337 Peritoneal adhesiolysis w/o CC/MC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perating Room Procedures: 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80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Small Intestine, Open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82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Small Intestine, Open Endoscopic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83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Small Intestine, Percutaneous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84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Small Intestine, Percutaneous Endoscopic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90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Duodenum, Open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92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Duodenum, Open Endoscopic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93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Duodenum, Percutaneous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94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Duodenum, Percutaneous Endoscopic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A0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Jejunum, Open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A2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Jejunum, Open Endoscopic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A3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Jejunum, Percutaneous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A4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Jejunum, Percutaneous Endoscopic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B0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Ileum, Open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B2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Ileum, Open Endoscopic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B3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Ileum, Percutaneous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B4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Ileum, Percutaneous Endoscopic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E0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Large Intestine, Open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E2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Large Intestine, Open Endoscopic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33520" y="5105520"/>
            <a:ext cx="2819160" cy="1447560"/>
          </a:xfrm>
          <a:prstGeom prst="wedgeRectCallout">
            <a:avLst>
              <a:gd name="adj1" fmla="val 64356"/>
              <a:gd name="adj2" fmla="val -10427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# of ICD-10-PCS codes: 1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CS root operation defin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leas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Freeing a body part from an external physical constra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4191120"/>
            <a:ext cx="2286000" cy="304560"/>
          </a:xfrm>
          <a:prstGeom prst="wedgeRectCallout">
            <a:avLst>
              <a:gd name="adj1" fmla="val -41527"/>
              <a:gd name="adj2" fmla="val -202606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# of ICD-9-CM codes: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743200" y="2666880"/>
            <a:ext cx="1676520" cy="9907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s replaced 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version of MS-DR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3160" y="1676160"/>
            <a:ext cx="830556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first, conversion of MS-DRGs to I-10 appeared more difficult than it turned out to 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S-DRGs are composed of logical relationships among lists of I-9 c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sion to I-10 leaves the logic of MS-DRGs unchang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n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I-9 lists of codes that underlie MS-DRGs need to be conver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nversion of the I-9 code lists to I-10 code lists is straightforw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rocess of “find and replace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be partially autom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9T18:29:21Z</dcterms:created>
  <dc:creator>3M HIS rb</dc:creator>
  <dc:description/>
  <dc:language>en-US</dc:language>
  <cp:lastModifiedBy>3M HIS rb</cp:lastModifiedBy>
  <cp:lastPrinted>2008-05-07T18:50:12Z</cp:lastPrinted>
  <dcterms:modified xsi:type="dcterms:W3CDTF">2009-03-05T14:32:03Z</dcterms:modified>
  <cp:revision>156</cp:revision>
  <dc:subject/>
  <dc:title>Title Here</dc:title>
</cp:coreProperties>
</file>