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9AC-703D-47F5-B6CB-368AB412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671-49E6-45E9-A9FA-CE74F8FE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092-C3C5-409B-843B-15C0224E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60A-50DF-4FD3-91B7-3D91649B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70FB-299E-4E66-AF8C-AE3616BF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5640-0059-48E2-AFFA-164516A5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D8B3-05E9-441A-A4BB-4677692A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B632-431E-4D95-9DD7-CE243A09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7B9C-08F0-4822-8BF5-9E9F057B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8A6B-5B84-4969-8995-2739FAAB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2B25-38D0-453E-8653-5EF5CA27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E03-5948-4121-A195-24D95F77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D4CC-971F-43AC-8B8B-3BC95175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8E5B-0EF0-439B-B3C2-623399F8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2B9A-8154-443C-BE1C-027569BA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1DB5-2685-4489-9B0F-020E0EBD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7B49-5274-466C-AF86-950E88BC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471-2373-4CD5-813F-49ADC4C3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179-43B5-4CC3-8901-2382B974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DD6-187C-4A4D-AD90-1631CDB2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D66-644F-49CB-B2AD-2E09FFF9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9D5-782B-4DE7-B649-3CFF3207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E65-DB68-4222-AEE4-B49BD807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CB8-D603-40AE-97B9-E78CCE88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3E68-8F1D-49E2-B70C-B3BF7FFFEE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C2E1-886F-4A83-AC56-0201BBF8AF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D-9-CM Coordination and Maintenance Committee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-ventricular Replacement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tley P. Griffith, M.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Cardiac Surgery Director, Heart and Lung Transplan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ty of Maryland Medical Center (UMM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20231" r="0" b="0"/>
          <a:stretch/>
        </p:blipFill>
        <p:spPr>
          <a:xfrm>
            <a:off x="1676520" y="3446640"/>
            <a:ext cx="5181480" cy="3117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8242"/>
                </a:solidFill>
                <a:latin typeface="Arial"/>
              </a:rPr>
              <a:t>1985-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62485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Griffi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0200" cy="5635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2160" y="6132600"/>
            <a:ext cx="20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73480" y="469800"/>
            <a:ext cx="4395600" cy="5916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918480" y="59040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865680" cy="5416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1680" y="6324480"/>
            <a:ext cx="21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92200" y="341280"/>
            <a:ext cx="4359600" cy="6175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18480" y="63612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384960" y="6284880"/>
            <a:ext cx="24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699160" y="6056280"/>
            <a:ext cx="283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anted CardioWest TAH-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459320" cy="5062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375680" y="613260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75680" y="620856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0800" y="630720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ntricular Assist Devic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(VAD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38862" t="1469" r="1709" b="4415"/>
          <a:stretch/>
        </p:blipFill>
        <p:spPr>
          <a:xfrm>
            <a:off x="533520" y="1600200"/>
            <a:ext cx="1981080" cy="4876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12859" t="1512" r="15535" b="1512"/>
          <a:stretch/>
        </p:blipFill>
        <p:spPr>
          <a:xfrm>
            <a:off x="2743200" y="1600200"/>
            <a:ext cx="2971800" cy="4876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32183" t="1512" r="1609" b="1512"/>
          <a:stretch/>
        </p:blipFill>
        <p:spPr>
          <a:xfrm>
            <a:off x="5943600" y="1600200"/>
            <a:ext cx="2743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562720" cy="5268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0120" y="60199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presentative Resected He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97000" y="1176480"/>
            <a:ext cx="6918480" cy="527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90080" y="6002280"/>
            <a:ext cx="853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courtes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. Cope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41960" cy="548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866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003560" cy="5124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613560" y="6132600"/>
            <a:ext cx="153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19920" y="6002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883560" cy="4562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10280" y="6172200"/>
            <a:ext cx="19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29120" cy="5694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18480" y="605628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20:30:28Z</dcterms:created>
  <dc:creator>cmarcot</dc:creator>
  <dc:description/>
  <dc:language>en-US</dc:language>
  <cp:lastModifiedBy>cmarcot</cp:lastModifiedBy>
  <dcterms:modified xsi:type="dcterms:W3CDTF">2007-10-05T18:55:02Z</dcterms:modified>
  <cp:revision>10</cp:revision>
  <dc:subject/>
  <dc:title>Slide 1</dc:title>
</cp:coreProperties>
</file>