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D6A65-BA4F-49B9-9053-C794457A1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2DE76-7150-4B59-9ED8-7E14B07C1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5BBDA-2F51-4F06-BD5F-68F1996CB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69607-70EB-462F-B992-8C0B9D573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4EA02-0550-43DF-8966-45C3442E4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06F5A-958E-4986-A1E0-FED13DB0B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B076C-4DAA-45ED-8D16-AB2A1762B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AB28E-CAC9-4D88-ACE0-1AD5D33E0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1754E-B50D-42D6-A6AB-F85C3BE75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D8765-C37E-4195-B2AD-0D9F04F12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30BC6-18BD-4434-AED7-927F4EC17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C96E2-95F8-41E0-A0BB-B36927EDB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E288-16F3-4218-8FD3-2F25E91658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ms.hhs.gov/AcuteInpatientPPS/FFD/itemdetail.asp?filterType=none&amp;filterByDID=-99&amp;sortByDID=2&amp;sortOrder=ascending&amp;itemID=CMS1201740&amp;intNumPerPage=10"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cms.hhs.gov/quarterlyproviderupdates/downloads/cms1533fc.pdf" TargetMode="External"/><Relationship Id="rId2" Type="http://schemas.openxmlformats.org/officeDocument/2006/relationships/hyperlink" Target="http://www.cms.hhs.gov/MLNMattersArticles/downloads/MM5499.pdf" TargetMode="External"/><Relationship Id="rId3" Type="http://schemas.openxmlformats.org/officeDocument/2006/relationships/hyperlink" Target="http://www.cdc.gov/nchs/datawh/ftpserv/ftpicd9/ftpicd9.ht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5001(c) of Deficit Reduction Act  (DRA) requires Secretary to select at least two conditions by 10/1/07 that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igh cost or high volume or bo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ssigned to a higher paying DRG when present as a secondary diagnos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Reasonably preventable through application of evidence based guidelin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D471316-8BA3-45E2-90DD-FEE78B5B4A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K3 segment reads as follow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OAYNUW1YZ” - Represents claim with 1 principal and 5 secondary diagnoses (6 PO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POA (Y) and 5 secondary POAs ar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POA (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known if POA (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ly undetermined (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t from reporting (1)</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 (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indicates the end of the POA data elem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1E05B5D-2B10-4422-9BD9-9149918972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Hospital-acquired conditions (HACs) for 10/1/08 implementation</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eventable event – object left in surgery</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8.4 - CC</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eventable event - air embolism</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9.1 - MCC</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eventable event- blood incompatibility</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9.6 - CC</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heter associated urinary tract infection</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6.64 &amp; 599.0 – CCs</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D87053A-30CF-4200-9355-60469B1F53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HACs for 10/1/08 implementation - continued</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ulcers</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7.00, 707.01, &amp; 707.09 – CC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7.02 – 707.07 - MCCs</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scular catheter associated infection</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9.31- CC</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gical site infection – Mediastinitis after CABG</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9.2 - MCC &amp; 36.10 – 36.19</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s – specific trauma cod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cms.hhs.gov/AcuteInpatientPPS/FFD/itemdetail.asp?filterType=none&amp;filterByDID=-99&amp;sortByDID=2&amp;sortOrder=ascending&amp;itemID=CMS1201740&amp;intNumPerPage=10</a:t>
            </a:r>
            <a:r>
              <a:rPr b="0" lang="en-US" sz="2400" spc="-1" strike="noStrike">
                <a:solidFill>
                  <a:srgbClr val="000000"/>
                </a:solidFill>
                <a:latin typeface="Arial"/>
              </a:rPr>
              <a:t> - MCC &amp; CC</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97F1077-010F-4723-9936-F112FB0059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dditional HAC possibilities for 10/1/08</a:t>
            </a:r>
            <a:endParaRPr b="0" lang="en-US" sz="32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tilator associated pneumonia – working to create new code</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hylococcus aureus septicemia – need to clarify instances when preventable</a:t>
            </a:r>
            <a:endParaRPr b="0" lang="en-US" sz="24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8.11 + 995.91, 998.59, 999.3 - MCCs</a:t>
            </a:r>
            <a:endParaRPr b="0" lang="en-US" sz="20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vein thrombosis (DVT) and pulmonary embolism (PE) – need to identify instances when preventable, such as after certain elective surgeries</a:t>
            </a:r>
            <a:endParaRPr b="0" lang="en-US" sz="24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T: 453.40 – 453.42 – CC</a:t>
            </a:r>
            <a:endParaRPr b="0" lang="en-US" sz="20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 415.10 &amp; 415.19 - MCC</a:t>
            </a:r>
            <a:endParaRPr b="0" lang="en-US" sz="20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2904831-091D-4250-8E07-79DFD165FA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cited input from the industry on better defining these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solicited additional areas for sel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to examine other area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tridium Difficile-Associated Disease (CDAD) 008.45 – CC.  Lack of prevention guidelin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icillin-Resistant Staphyloccocus Aureus (MRS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09.0 – not a C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discuss further in the IPPS proposed rule for FY 2009</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DDC652D-EA31-44FF-B877-2827ABE5B4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informa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PS final rule - </a:t>
            </a:r>
            <a:r>
              <a:rPr b="0" lang="en-US" sz="2800" spc="-1" strike="noStrike" u="sng">
                <a:solidFill>
                  <a:srgbClr val="009999"/>
                </a:solidFill>
                <a:uFillTx/>
                <a:latin typeface="Arial"/>
                <a:hlinkClick r:id="rId1"/>
              </a:rPr>
              <a:t>http://www.cms.hhs.gov/quarterlyproviderupdates/downloads/cms1533fc.pdf</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 acquired conditions – page 47200</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LN Matters – POA inform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cms.hhs.gov/MLNMattersArticles/downloads/MM5499.pd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A guidelines- ICD-9CM Official Guidelines, p. 9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www.cdc.gov/nchs/datawh/ftpserv/ftpicd9/ftpicd9.htm</a:t>
            </a: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F9C727D-C703-4383-9215-067B73FB61A2}"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10/1/08, the conditions will not be assigned to higher paying DRG unless present on admission (PO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hospital-acquired condition is only MCC/CC then HAC will not lead to assignment to MCC/CC severity lev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other secondary conditions reported which are MCC/CCs, then case would be assigned to higher severity leve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ischarges on or after 10/1/07 -hospitals begin submitting POA information on secondary diagno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es CAH, psych and rehab hospit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s only to acute IPPS hospital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8841C57-C6A6-403A-91BF-B3529CFC39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 5499, dated May 11, 2007 gives requiremen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reporting POA for discharges on or after 10/1/07.  No penalty at fir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harges on or after 1/1/08 claims will be processed without POA; however, will get remark code in remittance advice noting omission of PO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harges on or after 4/1/08 – claim returned if POA info is miss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9BBCDEC-31E6-41F8-B7C5-EC556BCDF5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 5499, dated May 11, 2007 gives requir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data entry (DDE) screens cannot be updated to include this information until January 1, 200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hospitals submitting claims via DDE will begin submitting POA indicators on 1/1/08</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BB4391B-7EA7-416F-B244-FB79693B4B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ims submitted electronically via 837, 4010A1 format shall use </a:t>
            </a:r>
            <a:r>
              <a:rPr b="1" lang="en-US" sz="3200" spc="-1" strike="noStrike">
                <a:solidFill>
                  <a:srgbClr val="000000"/>
                </a:solidFill>
                <a:latin typeface="Arial"/>
              </a:rPr>
              <a:t>segment K3 in the 2300 loop, data element K3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element shall contain letters “POA”, followed by a single POA indicator for every diagnosis on the cla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A indicator for principal diagnosis should be first indicator after “PO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3984D25-2DD9-4927-B315-C58D102335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diagnoses will follow, if applic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st POA indicator for principal and, if applicable, other diagnoses shall be followed by the letter “Z” to indicate the end of POA indicators for principal and, if applicable, other diagnos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5EFD8A1-A973-4394-A6B4-A77C625044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A indicators should be reported in the same sequence as are the principal and secondary diagno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A indicators should be included for all diagnoses reported on the claim, even though CMS currently only processes the first 9 diagnos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127AEED-800A-4B43-9301-459F6BB353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nt on Admission Indicator</a:t>
            </a:r>
            <a:br>
              <a:rPr sz="4000"/>
            </a:br>
            <a:r>
              <a:rPr b="0" lang="en-US" sz="4000" spc="-1" strike="noStrike">
                <a:solidFill>
                  <a:srgbClr val="000000"/>
                </a:solidFill>
                <a:latin typeface="Arial"/>
              </a:rPr>
              <a:t>Paper Claim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10/1/07 hospitals reporting on UB-04 paper claims will also report POA indic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A is placed in the eighth digit of FL 67, Principal diagnosis and the eighth digit of each Secondary diagnosis in fields FL 67 A-Q</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CDC16B8-E7EC-4B6B-A714-6969BECBE3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 Yes (present at the time of inpatient ad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o (not present at the time of inpatient ad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 - Unknown (documentation is insufficient to determine if condition is present at time of inpatient ad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 – Clinically undetermined (provider is unable to clinically determine whether condition was present at time of inpatient admission or n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Unreported/Not used – Exempt from POA reporting (This code is the equivalent of a blank on the UB-04, but blanks are not desirable when submitting data via the 4010A1.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701E100-F12E-430D-ADFC-635F9D921B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55:57Z</dcterms:created>
  <dc:creator>Pat Brooks</dc:creator>
  <dc:description/>
  <dc:language>en-US</dc:language>
  <cp:lastModifiedBy>MadyHue</cp:lastModifiedBy>
  <dcterms:modified xsi:type="dcterms:W3CDTF">2007-09-26T20:29:50Z</dcterms:modified>
  <cp:revision>28</cp:revision>
  <dc:subject/>
  <dc:title>MS-DRGs and other IPPS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66472950</vt:r8>
  </property>
  <property fmtid="{D5CDD505-2E9C-101B-9397-08002B2CF9AE}" pid="3" name="_AuthorEmail">
    <vt:lpwstr>Marilu.Hue@cms.hhs.gov</vt:lpwstr>
  </property>
  <property fmtid="{D5CDD505-2E9C-101B-9397-08002B2CF9AE}" pid="4" name="_AuthorEmailDisplayName">
    <vt:lpwstr>Hue, Marilu (CMS/CMM)</vt:lpwstr>
  </property>
  <property fmtid="{D5CDD505-2E9C-101B-9397-08002B2CF9AE}" pid="5" name="_EmailSubject">
    <vt:lpwstr/>
  </property>
  <property fmtid="{D5CDD505-2E9C-101B-9397-08002B2CF9AE}" pid="6" name="_NewReviewCycle">
    <vt:lpwstr/>
  </property>
</Properties>
</file>