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827-6313-4D3D-BC1F-FD625AAE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A13-F683-4FF4-B87D-7296588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434-E56D-48B2-8868-D561DFF4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134-ECDE-4AD1-9BCD-5733460A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31A-DEFB-4AE2-A22D-EBD5C4B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B96-F79A-4DF6-8FAC-E5F7942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212-0174-47AA-9C3C-518AF37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240-DB37-421B-828B-F303DE9B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90F-8DB9-4F25-9075-A742DCB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C06-4C76-4E14-A4E1-593EB87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765-23A8-4838-BF56-7C104D9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6D9-CB38-4AB9-8FE1-181A759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487692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1143000"/>
            <a:ext cx="8229600" cy="182520"/>
            <a:chOff x="457200" y="1143000"/>
            <a:chExt cx="8229600" cy="182520"/>
          </a:xfrm>
        </p:grpSpPr>
        <p:sp>
          <p:nvSpPr>
            <p:cNvPr id="2" name=""/>
            <p:cNvSpPr/>
            <p:nvPr/>
          </p:nvSpPr>
          <p:spPr>
            <a:xfrm>
              <a:off x="6874560" y="1143000"/>
              <a:ext cx="181188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1219320"/>
              <a:ext cx="822960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C15A-673F-4F67-B7F5-CAE8A45706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ICD-9-CM Procedure Code for Anular Repair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26708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Neurosurgery          Greater Baltimore Medica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9-CM Coding &amp; Maintenance Committee September 2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284-6097-4D63-A3C4-47963E814A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e-operations and improve patient outcome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ng nucleus material from re-extrudin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inflammation and scar forma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less extensive disc remov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957" t="39335" r="32211" b="32222"/>
          <a:stretch/>
        </p:blipFill>
        <p:spPr>
          <a:xfrm>
            <a:off x="2971800" y="3124080"/>
            <a:ext cx="3048120" cy="232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Why Repair the Anulus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781600"/>
            <a:ext cx="8915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wakami M, et al. The Role of Phospholipase A2 and Nitric Oxide in Pain-Related Behavior Produced by an Allograft of Intervertebral Disc Material to the Sciatic Nerve of the Rat. Spine 22(10):1074-1079, 199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arker K, et al. Pathogenesis of Sciatic Pain: Role of Herniated Nucleus Pulposus and Deformation of Spinal Nerve Root and Dorsal Root Ganglion. Pain 78(2):99-105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agee et al.  A Prospective Controlled Study of Limited Versus Subtotal Posterior Discectomy:  Short-Term Outcomes in Patients with Herniated Lumbar Intervertebral Discs and Large Posterior Anular Defect.  Spine 2006: 31:  pp653-6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306-AF36-46C2-975F-D51BBA41A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Current Procedure Op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73988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75248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627" t="25790" r="29001" b="8864"/>
          <a:stretch/>
        </p:blipFill>
        <p:spPr>
          <a:xfrm>
            <a:off x="6629400" y="1447920"/>
            <a:ext cx="1752480" cy="145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912-4EB2-4AEB-8765-768EA3A562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Microsurgical Suture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ly difficult and time consuming (approx 45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often achieves closure with two or three 4-0 absorbable sutures with manual knot t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cial autograft may be used to augment the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 human clinical data has shown a 68% reduction in reop rates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009960" cy="246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6172200"/>
            <a:ext cx="8283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185-F686-4F57-A9F2-5401130114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oft Tissue Re-Approximation Repair with Tension Band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is re-approximated with the use of Tension Band System consist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T-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llows for easier and more efficient repair than microsurgical su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746000" cy="185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1639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4380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Anch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84120" y="4133880"/>
            <a:ext cx="1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4191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57913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nsion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34320" y="5257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5486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4DC-70AA-49B4-95F1-139F767123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rgical Mesh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System 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ester (PET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ban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system allows for repair of larger size defects than microsurgical suturing or tension band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68480" cy="28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A93-881B-4E86-A811-2462312FD3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lar repair following lumbar discectomy is a worthwhile procedure to improve pati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 by using various procedur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ique ICD-9-CM procedure code(s) exist to report use of instruments and insertion of devices to repair the anulus fibr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7BB-C359-447D-BCE7-AE190EFEE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A71-BE37-4963-8ED3-EC1D045C83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peaker Background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er of Baltimore Neurosurgical Associates, Baltimore, 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 of Neurosurgery at Greater Baltimore Medical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ulty Member at John Hopkins School of Medicine and University of Mary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llow of the American College of Surge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lomate of the American Board of Surg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280-824E-40EA-83DE-DE284E6882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Anular Repair Application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ubmitted by David Wong, M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pedic Spine Surgeon, Denver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resident, North American Spine Society (N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code creation to report repair of the anulus fibrosus with graft or prosthesi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F57-AAEF-44EE-9627-1B4CB61947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Issue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lar Repa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discectomy surgery is performed to remove a herniated disc of the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n open pathway was left in the anulus following discectomy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codes exist for discectomy, there is no unique code(s) to report use of instruments and insertion of devices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9660" t="24720" r="19611" b="23596"/>
          <a:stretch/>
        </p:blipFill>
        <p:spPr>
          <a:xfrm>
            <a:off x="6172200" y="1981080"/>
            <a:ext cx="265428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B86-72D1-4AB3-BEBE-6953AD526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 Anatom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 is Compri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cleus Pulp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oft, gel-like inner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ulus Fibr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ugh, outer ring that contains the nucleus pulp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635" t="20337" r="15139" b="20337"/>
          <a:stretch/>
        </p:blipFill>
        <p:spPr>
          <a:xfrm>
            <a:off x="5410080" y="1828800"/>
            <a:ext cx="320040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005-0429-4ECF-8847-3CA6B5056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Herniated Dis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iated D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e or protrusion in anulus fibr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 compresses nerve root causing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867" t="17336" r="20728" b="36111"/>
          <a:stretch/>
        </p:blipFill>
        <p:spPr>
          <a:xfrm>
            <a:off x="5257800" y="1828800"/>
            <a:ext cx="3279600" cy="305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D39-46DB-480A-951B-94B39D5E84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ectomy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procedure to remove a herniated di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performed spinal sur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UP data shows majority of procedures performed in the inpatient hospital setting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955" t="24524" r="30015" b="29733"/>
          <a:stretch/>
        </p:blipFill>
        <p:spPr>
          <a:xfrm>
            <a:off x="5562720" y="1676520"/>
            <a:ext cx="2909880" cy="31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28600" y="617148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en &amp; Anders, Ltd (200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C0D-E5E2-4587-B47B-7B9B31C06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Discectomy Clinical Outcom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 surgery is a well accepted procedure with a proven track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still room for improved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% of patients continue to suffer from back or leg pain following discectomy surgery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atients either continue with conservative treatment or require a re-ope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942880"/>
            <a:ext cx="701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pasis et al.  Seven-to-20-Year Outcome of Lumbar Discectomy.  Spine 1999;24:  pp 2313-23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 et al.  Economic Impact of Improving Outcomes of Lumbar Discectomy.  Study presented at the 23rd Annual Meeting of the AANS/CNS Section on Disorders of the Spine and Peripheral Nerves.  Phoenix, AZ – March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2EA-D03D-4193-9FC5-3F31BCC8F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ectomy Reoperation R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666880"/>
          <a:ext cx="7467480" cy="2081160"/>
        </p:xfrm>
        <a:graphic>
          <a:graphicData uri="http://schemas.openxmlformats.org/drawingml/2006/table">
            <a:tbl>
              <a:tblPr/>
              <a:tblGrid>
                <a:gridCol w="1366560"/>
                <a:gridCol w="1438560"/>
                <a:gridCol w="1422360"/>
                <a:gridCol w="1420560"/>
                <a:gridCol w="1819440"/>
              </a:tblGrid>
              <a:tr h="39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O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,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6324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334120"/>
            <a:ext cx="830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 R, et al.  A Population Based Study of Reoperations After Back Surgery. Spine 1997;22:2265-227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lter A., et al.  5-Year Reoperation Rates After Different Types of Lumbar Surgery.  Spine 1998;23:814-8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S., et al.  Surgical and Nonsurgical Management of Sciatica Secondary to Lumbar Disc Herniation:  Five-Year Outcomes from the Maine Lumbar Spine Study.  Spine 2001;26:1179-118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sterman H., et al.  Risk of Multiple Reoperations After Lumbar Disecectomy: A Population Based Study.  Spine 2003;28:621-62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et. al.  Long-Term Outcomes of Surgical and Nonsurgical Management of Sciatica to a Lumbar Herniation:  10 Year Results from the Maine Lumbar Spine Study.  Spine 2005;30:927-9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published, population based studies report re-operation rate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-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54E-5AA6-42BF-8227-C5096F904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5:45:13Z</dcterms:created>
  <dc:creator> </dc:creator>
  <dc:description/>
  <dc:language>en-US</dc:language>
  <cp:lastModifiedBy> </cp:lastModifiedBy>
  <dcterms:modified xsi:type="dcterms:W3CDTF">2007-09-11T18:46:16Z</dcterms:modified>
  <cp:revision>100</cp:revision>
  <dc:subject/>
  <dc:title>Lumbar Discectomy:  New Surgical Advances  Dr.__________ Hospital________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147188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