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99E-74E8-4613-8BBB-B40D961B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9D8-05F7-41B4-8718-CB0A8F32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967-AF41-4120-9914-5CB9C167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B43-FF41-49F2-8762-BD93D970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C580-BD31-4705-B266-F08AED4A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8BFB-F2E4-4B0D-8219-085173C5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4ECB-22FE-46B7-8B51-24AD8C96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2511-2D6E-4038-986C-64B4EC69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6DCF-2971-4CDB-A1D7-FABF860C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733B-9D68-4908-9948-D4E35B79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EE3F-3870-4E93-90FC-430F6C9C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74C-7C08-4056-AC54-CE065495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0F05-CCB7-4A01-ADEA-2CC6A40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5977-9DA6-45A8-9CD8-5C29A698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E184-3E3A-41DA-84BF-6A07F8F1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5BEC-EA44-4300-94B8-AF2B3DFB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17BD-3089-4D51-9574-A0FCF5E7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DE6-C1F8-450A-8C24-C4292785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8F6-4018-4E16-9426-7A3BD7A9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663-AE3C-42C2-A2A6-B01C42F2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A35-8D1F-49CA-AE7E-0FBF4FE1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427-0073-40E3-B00A-64D31F6E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FC3-47E9-486A-97FA-D17112BE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B70-D4A0-426E-9E03-F59D327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8347-3516-4D77-A5DB-2853C204ED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4982-D7DE-4CDF-8FEB-EF0BEF374D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regulation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NF PPS REFINEMENTS-   53 RUG-III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MS, November 21,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,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55B-4F64-4403-8AC1-9D0C2B83BE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5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8B6-39A6-4CC7-8711-4257A2CAC8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: (section P1b [a, b, c]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5 days any combination of the 3 discip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72C-C13C-403F-92F4-6CAF1EE17D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b,c] and P3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minutes of therapy per week minimum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3 days any combination of the 3 disciplin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or more nursing rehabilitation services received at least 15 minutes each for 6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5B0-7A21-40B7-96E1-F980119352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there any changes to the MD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have been no changes to the instructions for completing the MD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will continue to complete as us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CA9-61E3-44E6-8709-5BBDB2BAAF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MDS i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jection of therap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in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high, medium, and low intens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RA requirement must be fulfilled when all therapy services are no longer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ident was previously assigned into a Rehabilitation Plus Extensive Services or Rehabilitation 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killed services continue to b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D5E-635B-416A-97CD-75FE7B272A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ministrative Presumption of Coverag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fying hospital sta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 the level of care requirements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</a:rPr>
              <a:t>4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CFR 409.3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 to and including the assessment reference date for the 5-day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ed to one of the RUGs as representing the required level of 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F0B-A31D-47CF-9087-60BEDF1EF1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s “Administrative Presumption” Appl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es to the top 35 groups when correctly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neficiary who classifies to any of the lower 18 RUG groups is not automatically classified as meeting the SNF level of care defin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327-608B-4E62-BAA1-8E9AF1FB2D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p 35 RUG grou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habilitation plus Extensive Servic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ltra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y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um Rehabilitatio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nsive Serv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Care; and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ly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A34-C52B-4A18-A7EB-DA01D2F39A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ion of RAVEN, 5.2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in using new software for ARDs of 11/22/05 an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receive 2 RUGs categories on Final Validation Report from 11/22/05 – 1/13/06 =&gt; one will be 44-RUG category, one will be 53-RU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520-7219-40E1-B53B-3F5CB1BCB1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UG Refinement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1 of The Medicare, Medicaid, SCHIP Balanced Budget Refinement Act of 1999 (BBR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add-ons for specified RUG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0/1/00 or the implementation of case-mix refinements to the SNF 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B9A-C4C4-4E26-A509-6E3C0A64E0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 from October 1 to December 31, 2005 payment based on the 44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s January 1, 2006 and on payment based on the 53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761-6715-4EDB-8F99-61B1CC2503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maximizing classification  contin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a beneficiary classifies into more than one RUG category, the group with the highest case mix index (CMI) will be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991-45AC-4852-9C0B-38B75875E7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ex Maximizing Classification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 meets criteria for assignment in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L (CMI = 4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B (CMI = 4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2 (CMI = 31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VL has highest CMI (46).  Therefore, the person will be assigned into RV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889-8309-4517-B1BA-29C10DB6E7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-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orary add-ons of 20% and 6.7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ain in effect 10/1 – 12/31/0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nger apply 1/1/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DS temporary add-on of 12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es to both RUG classification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525-963B-43D1-963C-59E482A0D4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im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IPPS codes are for the nine new categories only, which correspond to nine new 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changes to assessment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ims with one of the new nine RUG categories with dates of service prior to 1/1/06 will be rejec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AA3-5AA4-47F1-8725-717AA19339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 RUG-III Case-Mix Classification System (44 RUGs plus 9 new 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ion of the M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mption” of Cover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41C-4849-4116-BF20-52CEBD4F1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Rehabilitation Plus Extensive Services:  RUX, RUL, RVX, RVL, RHX, RHL, RMX, RML, RL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habilita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C, RUB, RUA, RVC, RVB, RVA, RHC, RHB, RHA, RMC, RMB, RMA, RLB, 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ervic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3, SE2, SE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 Care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C, SSB, 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590-6B25-44C6-B84D-857270EC8E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 (con’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ly Complex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C2, CC1, CB2, CB1, CA2, C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ired Cogni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2, IB1, IA2, I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Problem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2, BB1, BA2, B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Physical Func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2, PE1, PD2, PD1, PC2, PC1, PB2, PB1, PA2, PA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E5A-5F0B-480A-A0D5-663AD8D18F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 Requirements Necessary to Classify into Rehabilitation Plus Extensive Services Catego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L S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ERVICES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HABILIT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71A-608C-43C3-8182-D44889F4CC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L Sc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L score must be 7 or hig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quirement is consistent with the  existing requirement for classification into Extens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BC9-1DB5-4819-821F-BFA5BDE9A5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ve Services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ident must be coded for receiv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more of the following extensive servi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5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enteral / 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 Med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heostomy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ilator or respi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740-3636-419E-AE26-2B245FE73A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ltra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d discipline 3 days/wee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5D1-B77C-403D-814A-4BE7BA8998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28:31Z</dcterms:created>
  <dc:creator>CMS</dc:creator>
  <dc:description/>
  <dc:language>en-US</dc:language>
  <cp:lastModifiedBy>CMS</cp:lastModifiedBy>
  <dcterms:modified xsi:type="dcterms:W3CDTF">2005-11-16T14:06:51Z</dcterms:modified>
  <cp:revision>16</cp:revision>
  <dc:subject/>
  <dc:title>SNF PPS REFIN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39374035</vt:r8>
  </property>
  <property fmtid="{D5CDD505-2E9C-101B-9397-08002B2CF9AE}" pid="3" name="_AuthorEmail">
    <vt:lpwstr>Ellen.Gay@cms.hhs.gov</vt:lpwstr>
  </property>
  <property fmtid="{D5CDD505-2E9C-101B-9397-08002B2CF9AE}" pid="4" name="_AuthorEmailDisplayName">
    <vt:lpwstr>Gay, Ellen M.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