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23BC3-5FD6-49DB-BBEB-FCBB93E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664F4-AC8D-481C-B0C9-107BC66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D6B3D-AB67-4F53-8215-742F7047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989EB-6899-4C02-8CFB-4687682F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49504-9A84-4261-AF97-0AF724E0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64EE7-DEDF-4344-A21E-25D04A5F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058CC-F82E-4C87-B3CF-559BD93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AE496-F562-4509-8881-8CEF2E92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EBC5D-ECF8-4372-B818-553B294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89D53-BBA3-4F9A-B7FC-729C5A28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6068-5F93-49BC-83FE-435BF815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DF12B-3D57-4AAF-AD01-9492DCE2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IVE TEP December 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82A-4D3E-4275-8F11-C1F7B748D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9AE9-E2A8-4963-9648-F5F80AA8C9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ms.hhs.gov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bus Budget Reconciliation Act of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uniform assessment instrument, based on a minimum data set to improve facility care planning and resid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Budget Act of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F moves to PPS system in 1998, many states use the case-mix payment system for Medicaid reimburs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mix system at the core of the Medicare SNF PPS consists of three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s (S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assess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calculations of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tiliz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group represents a level of resource utilization and is quantified with a case mix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resource utilization to paymen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-III classification system was designed by relating resident characteristics to wage-weighted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garding a resident’s characteristics was derived from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S resident assessment instr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50 percent of states use a version of the RUG classification system to pay for Medicaid nursing hom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Federal and state systems are based on staff time measurement data collected in 1990, 1995, and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onal time study has taken place since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30, 2005, CMS awarded a contract to Iowa Foundation for Medical Care (IFMC) and its partners to conduct 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ope of Work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team will implement and manage CMS’s multi-state STM study including the following tas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 nursing homes, state agencies, and volunteers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ardware, software, and training to obtain the data in a use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data collection through pilot test and national tim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speci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nt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llary co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items and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s, therapy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llaboration with other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A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ationally representative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bout 12,000 resi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random sample of facilities withi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and special population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creening based on survey deficiencies and QI/QM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ate / Facility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Burke, Ph.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e Pelfrey, STRIVE Project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oals of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resource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time data with most current and test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staff levels and resident lo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data to be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ata from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resources used for resid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ivac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level data not shared or available outside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conducted in compliance with HIPA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data not shared with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ime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time from all direct car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 running the CareTrack Staff Time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backup available for technical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nd group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time data collection is very easy to learn and use, and is reliable and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Specific Time (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with or on behalf of a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ists identify the modality by selecting HCPC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on-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Resident Specific Time (N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supporting the delivery of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u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eals and Break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an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’s spend on personal meals and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Additional Resources Used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o Care for Residen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Assessmen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/update hardcopy MDS 2.0 with an assessment reference date during th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upplemental assessment items o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to IFMC for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Burke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Directo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Characteristic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,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, types, sizes of nurs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te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es state project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staff for on-site data collection and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s facilities an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Support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keholder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study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stud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issues an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volunteers for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s i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staff for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staff and resident r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staff time and resourc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work spa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FMC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TRIVE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s state projec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ample facilit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recruitment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recruit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recruitment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study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laptops and Pocket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help line and stud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Collection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performed by states, with  assistance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trained volunteers create partnerships and keep the process transparent to th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alit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ibrate CMI for current RUG-III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(N=1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, 44, 53 group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veral CMI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, Medicaid, D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057400"/>
            <a:ext cx="3353040" cy="6858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32767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289584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838080" cy="10670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6" idx="3"/>
          </p:cNvCxnSpPr>
          <p:nvPr/>
        </p:nvCxnSpPr>
        <p:spPr>
          <a:xfrm flipV="1">
            <a:off x="3429000" y="3428280"/>
            <a:ext cx="915120" cy="1105560"/>
          </a:xfrm>
          <a:prstGeom prst="straightConnector1">
            <a:avLst/>
          </a:prstGeom>
          <a:ln w="63360">
            <a:solidFill>
              <a:srgbClr val="ff99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348080" y="1294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256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57800" y="3505320"/>
            <a:ext cx="838080" cy="1676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1752480"/>
            <a:ext cx="761760" cy="1752840"/>
          </a:xfrm>
          <a:prstGeom prst="line">
            <a:avLst/>
          </a:prstGeom>
          <a:ln w="633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15200" y="3200400"/>
            <a:ext cx="1276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5e5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G-III</a:t>
            </a:r>
            <a:endParaRPr b="0" lang="en-US" sz="1800" spc="1" strike="noStrike">
              <a:ln w="19080">
                <a:solidFill>
                  <a:srgbClr val="e5e5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eographic Distribution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roject Team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MC is based in West Des Moines, Iowa with offices in Owings Mills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University, Washington, 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, Ann Arbor,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Track Systems, Key West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wise Systems, Austin, 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UG-III mod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Rehab+Extens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leafy-end spl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ventilator/respi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changing RUG-III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use of known 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IV medications before/after NH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additional qualif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new assessme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RUG-III modifica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UG-III service-based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physician orders/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ssessment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dditional cos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of any new assessm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D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Canadia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ampling Desig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, random sample of facilities within volunteer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cation will insure adequat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bas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ex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particip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emergencies, legal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Pla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15 states, 240 facilit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000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facilities will include all un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cept large facil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atification of Facilit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26760" y="1371240"/>
            <a:ext cx="546120" cy="441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46320" y="1374840"/>
            <a:ext cx="5321160" cy="26388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Med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6320" y="3932280"/>
            <a:ext cx="5321160" cy="1818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2 (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2557440"/>
            <a:ext cx="48135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2840" y="46292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2840" y="52214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Methodolog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ta-based exclusions using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CAR de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(QIs)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s (Q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lect sample from remaining facilities (over-s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keholder exclusions from list of sampled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Exclus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data-based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s with QI/QM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algorithm for scoring survey and complaint deficienc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pecial Popula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inclusion 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of high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rare (prevalence &lt;0.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cillary Cost Measur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easures collected direct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 part of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dled vs. unbundl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drugs/ IV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aric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swa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nly for Medicare Part A st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NDC codes, can attach price/co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ose (need adv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 &amp; privacy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 to 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n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/ Medicaid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 for a sample of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Approach: Medicare b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ills related to drug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other co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equire primary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not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ossible for 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dentify appropriate bills (time fr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n getting complete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High cost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database with daily cost by dru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drugs in top % (e.g., 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or STRIVE project staff code drug/frequency/dose received by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drugs most likely at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s data collection effort (few residents rece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high-daily-cost drugs could be very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find database to identify high-daily-cost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daily-cost drugs may be used infrequent High cost drugs change ove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ing to check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Medicare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enter drug data directly into database (with look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out sent to IFMC for e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database sent from facility/pharmacy to IF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NDC c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ll drugs, can do any analys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lternative data collection/coding method is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sample of Medicare A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 facilities where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similar to “All drug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xpensive, as only doing for part of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with this capability may create a biased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ot have sufficient sample size for 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ther Cost Data Issu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some supplies/services straight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selected items as part of assessment (include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collection issues for some other high-cost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st for a supply with no specified time peri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ressure-relieving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MDS 2.0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DS instr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V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ssessment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efficiency and accuracy of the RUG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changes in health care practices since implementation of SNF 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yment to promot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choo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influence on case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“gam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u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i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pecification, training mate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ob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relia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liability Stud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assessment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inter-rater reliabilit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est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ability of ancillary cos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Skilled Service Patterns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s before or after SNF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, IV medications, su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patterns and RUG break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moda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providers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EP Objectiv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scope of STRIV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Stakeholder In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/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 / Data Collection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&amp; Sampling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Analysis &amp; Sampling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, continue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5-12-19T16:07:36Z</dcterms:modified>
  <cp:revision>90</cp:revision>
  <dc:subject/>
  <dc:title>STRIV fka NN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