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936C2B-9ABB-409A-91CA-4B1A39353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B4F5C6-3EAD-4F2E-9507-60BD4C1C3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0516B-FFB2-4C54-BBC1-40B65E537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BF14B7-2385-4EEB-B319-7754395BE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7CFCE-BF23-4EC9-ADA0-E46711AC5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FA1A41-98AF-4083-B494-3FC652FB76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33B2E1-AA4D-4A1F-B976-272D8DBE4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0A6A4-3E0A-492D-82E2-E2A9EFBB4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B68A2B-7EC5-4054-98A9-5BF848A532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22D45-69DD-4590-B165-1CC988175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4B231-140F-4BA9-BA2C-39D22A2FA4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3A975-F194-4FB7-9CC8-50C98EF868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8ECD8-87DA-4213-B6DE-F86896EC7A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mailto:NHSN@cdc.gov"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cdc.gov/nhsn/FAQ_enrollment.html" TargetMode="External"/><Relationship Id="rId2" Type="http://schemas.openxmlformats.org/officeDocument/2006/relationships/hyperlink" Target="http://www.cdc.gov/nhsn/FAQ_general.html" TargetMode="External"/><Relationship Id="rId3" Type="http://schemas.openxmlformats.org/officeDocument/2006/relationships/hyperlink" Target="mailto:nhsn@cdc.gov" TargetMode="Externa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mailto:help@qtso.com" TargetMode="External"/><Relationship Id="rId2" Type="http://schemas.openxmlformats.org/officeDocument/2006/relationships/hyperlink" Target="mailto:NHSN@cdc.gov" TargetMode="External"/><Relationship Id="rId3" Type="http://schemas.openxmlformats.org/officeDocument/2006/relationships/hyperlink" Target="mailto:IRF.questions@cms.hhs.gov" TargetMode="External"/><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Special Open Door Forum</a:t>
            </a:r>
            <a:endParaRPr b="0" lang="en-US" sz="4400" spc="-1" strike="noStrike">
              <a:solidFill>
                <a:srgbClr val="000000"/>
              </a:solidFill>
              <a:latin typeface="Calibri"/>
            </a:endParaRPr>
          </a:p>
        </p:txBody>
      </p:sp>
      <p:sp>
        <p:nvSpPr>
          <p:cNvPr id="42" name="PlaceHolder 2"/>
          <p:cNvSpPr>
            <a:spLocks noGrp="1"/>
          </p:cNvSpPr>
          <p:nvPr>
            <p:ph type="subTitle"/>
          </p:nvPr>
        </p:nvSpPr>
        <p:spPr>
          <a:xfrm>
            <a:off x="761760" y="1828440"/>
            <a:ext cx="7848360" cy="4419720"/>
          </a:xfrm>
          <a:prstGeom prst="rect">
            <a:avLst/>
          </a:prstGeom>
          <a:noFill/>
          <a:ln w="0">
            <a:noFill/>
          </a:ln>
        </p:spPr>
        <p:txBody>
          <a:bodyPr anchor="t">
            <a:noAutofit/>
          </a:bodyPr>
          <a:p>
            <a:pPr indent="0" algn="ctr">
              <a:spcBef>
                <a:spcPts val="850"/>
              </a:spcBef>
              <a:spcAft>
                <a:spcPts val="36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53735"/>
                </a:solidFill>
                <a:latin typeface="Calibri"/>
              </a:rPr>
              <a:t>Update on the CMS Quality Reporting Program for</a:t>
            </a:r>
            <a:br>
              <a:rPr sz="3400"/>
            </a:br>
            <a:r>
              <a:rPr b="1" lang="en-US" sz="3400" spc="-1" strike="noStrike">
                <a:solidFill>
                  <a:srgbClr val="953735"/>
                </a:solidFill>
                <a:latin typeface="Calibri"/>
              </a:rPr>
              <a:t>Inpatient Rehabilitation Facilities*</a:t>
            </a:r>
            <a:endParaRPr b="0" lang="en-US" sz="3400" spc="-1" strike="noStrike">
              <a:solidFill>
                <a:srgbClr val="000000"/>
              </a:solidFill>
              <a:latin typeface="Calibri"/>
            </a:endParaRPr>
          </a:p>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898989"/>
                </a:solidFill>
                <a:latin typeface="Calibri"/>
              </a:rPr>
              <a:t> </a:t>
            </a:r>
            <a:r>
              <a:rPr b="1" lang="en-US" sz="3400" spc="-1" strike="noStrike">
                <a:solidFill>
                  <a:srgbClr val="000000"/>
                </a:solidFill>
                <a:latin typeface="Calibri"/>
              </a:rPr>
              <a:t>Thursday, </a:t>
            </a:r>
            <a:r>
              <a:rPr b="1" lang="en-US" sz="3400" spc="-1" strike="noStrike">
                <a:solidFill>
                  <a:srgbClr val="0d0d0d"/>
                </a:solidFill>
                <a:latin typeface="Calibri"/>
              </a:rPr>
              <a:t>July 26</a:t>
            </a:r>
            <a:r>
              <a:rPr b="1" lang="en-US" sz="3400" spc="-1" strike="noStrike" baseline="30000">
                <a:solidFill>
                  <a:srgbClr val="0d0d0d"/>
                </a:solidFill>
                <a:latin typeface="Calibri"/>
              </a:rPr>
              <a:t>th</a:t>
            </a:r>
            <a:r>
              <a:rPr b="1" lang="en-US" sz="3400" spc="-1" strike="noStrike">
                <a:solidFill>
                  <a:srgbClr val="0d0d0d"/>
                </a:solidFill>
                <a:latin typeface="Calibri"/>
              </a:rPr>
              <a:t>, 2012</a:t>
            </a:r>
            <a:endParaRPr b="0" lang="en-US" sz="3400" spc="-1" strike="noStrike">
              <a:solidFill>
                <a:srgbClr val="000000"/>
              </a:solidFill>
              <a:latin typeface="Calibri"/>
            </a:endParaRPr>
          </a:p>
          <a:p>
            <a:pPr indent="0" algn="ctr">
              <a:spcBef>
                <a:spcPts val="850"/>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898989"/>
                </a:solidFill>
                <a:latin typeface="Calibri"/>
              </a:rPr>
              <a:t>1:00 p.m. – 2:30 p.m. (ET)</a:t>
            </a:r>
            <a:endParaRPr b="0" lang="en-US" sz="3400" spc="-1" strike="noStrike">
              <a:solidFill>
                <a:srgbClr val="000000"/>
              </a:solidFill>
              <a:latin typeface="Calibri"/>
            </a:endParaRPr>
          </a:p>
          <a:p>
            <a:pPr indent="0" algn="ctr">
              <a:spcBef>
                <a:spcPts val="601"/>
              </a:spcBef>
              <a:spcAft>
                <a:spcPts val="4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53735"/>
                </a:solidFill>
                <a:latin typeface="Calibri"/>
              </a:rPr>
              <a:t>*Patient Protection and Affordable Care Act, Section 3004(a)</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requently Asked Questions- Pressure Ulcers and IRF-PAI Data Submissio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f a patient is admitted with a stageable pressure ulcer, but is unstageable at the time of discharge from the IRF, is this considered worsene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Although all unstageable pressure ulcers should be recorded in the patient’s medical record, the IRF-PAI does not currently collect data on unstageable pressure ulcers. The IRF-PAI is only collecting data on worsening in pressure ulcers that are numerically staged.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0" name=""/>
          <p:cNvSpPr txBox="1"/>
          <p:nvPr/>
        </p:nvSpPr>
        <p:spPr>
          <a:xfrm>
            <a:off x="457200" y="158904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admission documentation of pressure ulcer information must be done within the first 3 days of admis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admission assessment, complete the assessment as close to the actual time of admission as possible. CMS recognizes that the full initial assessment may not occur during the first day, and allow the admission assessment to occur during the first 3 calendar days of the stay. The best clinical practice is to complete a full skin assessment as soon as i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Is it accurate that the discharge documentation of pressure ulcer information must be done within the first 3 days of discharg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For the discharge assessment, complete the assessment as close to the time of discharge as possible. CMS recognizes that a full final assessment may not occur on the last day of the stay, and allows the discharge assessment to occur during the last 3 calendar days of the stay. The best clinical practice is to complete a full skin assessment as close to the time of discharge that is feasibl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Where would I document an unstageable pressure ulcer in the new quality indicator section of the 10/1/12 IRF-PAI?</a:t>
            </a:r>
            <a:endParaRPr b="0" lang="en-US" sz="2400" spc="-1" strike="noStrike">
              <a:solidFill>
                <a:srgbClr val="000000"/>
              </a:solidFill>
              <a:latin typeface="Calibri"/>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Do not report any unstageable pressure ulcer on the IRF-PAI that remains unstageable throughout the duration of the patient’s IRF stay. If the pressure ulcer was unstageable on admission, but becomes stageable during the IRF stay, then </a:t>
            </a:r>
            <a:r>
              <a:rPr b="1" i="1" lang="en-US" sz="2400" spc="-1" strike="noStrike">
                <a:solidFill>
                  <a:srgbClr val="000000"/>
                </a:solidFill>
                <a:latin typeface="Calibri"/>
              </a:rPr>
              <a:t>it should be considered as present at the time of admission at the stage at which it first becomes stageable. </a:t>
            </a:r>
            <a:r>
              <a:rPr b="0" lang="en-US" sz="2400" spc="-1" strike="noStrike">
                <a:solidFill>
                  <a:srgbClr val="000000"/>
                </a:solidFill>
                <a:latin typeface="Calibri"/>
              </a:rPr>
              <a:t>If the patient’s unstageable pressure ulcer never becomes a stageable pressure ulcer, then it would not reported on the IRF-PAI.</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a:t>
            </a:r>
            <a:r>
              <a:rPr b="0" lang="en-US" sz="2400" spc="-1" strike="noStrike">
                <a:solidFill>
                  <a:srgbClr val="000000"/>
                </a:solidFill>
                <a:latin typeface="Calibri"/>
              </a:rPr>
              <a:t> If a pressure ulcer is acquired or worsens during a patient’s program interruption (in acute care), how would this information be recorded on the IRF-PAI?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a:t>
            </a:r>
            <a:r>
              <a:rPr b="0" lang="en-US" sz="2400" spc="-1" strike="noStrike">
                <a:solidFill>
                  <a:srgbClr val="000000"/>
                </a:solidFill>
                <a:latin typeface="Calibri"/>
              </a:rPr>
              <a:t> If the patient was admitted to the acute care hospital and returned to the IRF in less than 3 days, the patient had an interrupted stay, and was not officially discharged from the IRF.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	</a:t>
            </a:r>
            <a:r>
              <a:rPr b="0" i="1" lang="en-US" sz="2400" spc="-1" strike="noStrike">
                <a:solidFill>
                  <a:srgbClr val="000000"/>
                </a:solidFill>
                <a:latin typeface="Calibri"/>
              </a:rPr>
              <a:t>CMS sees acute care facilities and post-acute care facilities as having shared responsibility for patients’ health, and encourages all healthcare providers to coordinate patient care so as to achieve the highest quality of car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essure Ulcer Data Submission</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ew, mandatory pressure ulcer items included on the IRF-PAI in the “Quality Indicator Se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ther Quality Indicator items that had been voluntary in past have been deleted (respiratory status, pain, safet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pdated IRF-PAI assessment collection software (jIRVEN) will be available from CMS to support the 10/01/2012 releas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ame IRF-PAI submission process will be us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What IRF-PAI form should a facility use if a patient straddles the October 1, 2012 date - for example, if a patient is admitted on September 15th and is discharged on October 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The new IRF-PAI form can be filled out by facilities prior to October 1, 2012, but it cannot be submitted to CMS prior to October 1, 2012. A facility should use the new IRF-PAI for patients who are expected to be discharged after October 1, 2012.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Any submission file submitted on or after October 1, 2012 must be in the new file form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requently Asked Questions</a:t>
            </a:r>
            <a:endParaRPr b="0" lang="en-US" sz="44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 </a:t>
            </a:r>
            <a:r>
              <a:rPr b="0" lang="en-US" sz="2400" spc="-1" strike="noStrike">
                <a:solidFill>
                  <a:srgbClr val="000000"/>
                </a:solidFill>
                <a:latin typeface="Calibri"/>
              </a:rPr>
              <a:t>How does the submission process change October 1, 2012? What if a facility discharged a patient on September 27th but did not submit the IRF-PAI at discharg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nswer: </a:t>
            </a:r>
            <a:r>
              <a:rPr b="0" lang="en-US" sz="2400" spc="-1" strike="noStrike">
                <a:solidFill>
                  <a:srgbClr val="000000"/>
                </a:solidFill>
                <a:latin typeface="Calibri"/>
              </a:rPr>
              <a:t>Submit the discharge IRF-PAI as soon as possible after discharge. CMS will continue to accept the old IRF-PAI for patients who were admitted and discharged prior to October 1, 2012.</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Note: </a:t>
            </a:r>
            <a:r>
              <a:rPr b="0" lang="en-US" sz="2400" spc="-1" strike="noStrike">
                <a:solidFill>
                  <a:srgbClr val="000000"/>
                </a:solidFill>
                <a:latin typeface="Calibri"/>
              </a:rPr>
              <a:t>If the record is submitted on or after October 1, 2012, the record must be in the new file format. It will still contain the items from the “old” form.</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CAUTI</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Goals of this Special Open Door Forum</a:t>
            </a:r>
            <a:endParaRPr b="0" lang="en-US" sz="4000" spc="-1" strike="noStrike">
              <a:solidFill>
                <a:srgbClr val="000000"/>
              </a:solidFill>
              <a:latin typeface="Calibri"/>
            </a:endParaRPr>
          </a:p>
        </p:txBody>
      </p:sp>
      <p:sp>
        <p:nvSpPr>
          <p:cNvPr id="44"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end of this Open Door Forum, participants will be able to:</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Section 3004 of the Affordable Care Act</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the requirements of the IRF quality reporting program</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how to successfully submit data and avoid penalties</a:t>
            </a:r>
            <a:endParaRPr b="0" lang="en-US" sz="2800" spc="-1" strike="noStrike">
              <a:solidFill>
                <a:srgbClr val="000000"/>
              </a:solidFill>
              <a:latin typeface="Calibri"/>
            </a:endParaRPr>
          </a:p>
          <a:p>
            <a:pPr lvl="1" marL="404640" indent="-2872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 resources available for assistance with the ACA Section 3004 IRF Quality Reporting Progra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NHSN Data Submission</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UTI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bmitted on-line to the Centers for Disease Control (CDC) via the NHSN (National Health Safety Networ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istration, training, signed agreement requir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DC Data Submission</a:t>
            </a:r>
            <a:endParaRPr b="0" lang="en-US" sz="4400" spc="-1" strike="noStrike">
              <a:solidFill>
                <a:srgbClr val="000000"/>
              </a:solidFill>
              <a:latin typeface="Calibri"/>
            </a:endParaRPr>
          </a:p>
        </p:txBody>
      </p:sp>
      <p:sp>
        <p:nvSpPr>
          <p:cNvPr id="77" name=""/>
          <p:cNvSpPr txBox="1"/>
          <p:nvPr/>
        </p:nvSpPr>
        <p:spPr>
          <a:xfrm>
            <a:off x="457200" y="1142640"/>
            <a:ext cx="8229600" cy="5334120"/>
          </a:xfrm>
          <a:prstGeom prst="rect">
            <a:avLst/>
          </a:prstGeom>
          <a:noFill/>
          <a:ln w="0">
            <a:noFill/>
          </a:ln>
        </p:spPr>
        <p:txBody>
          <a:bodyPr anchor="t">
            <a:normAutofit/>
          </a:bodyPr>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IRF QRP, IRFs with a CCN with the last 4 digits of 3025-3099 need to register with CDC as a “Rehabilitation Facility”</a:t>
            </a:r>
            <a:endParaRPr b="0" lang="en-US" sz="2800" spc="-1" strike="noStrike">
              <a:solidFill>
                <a:srgbClr val="000000"/>
              </a:solidFill>
              <a:latin typeface="Calibri"/>
            </a:endParaRPr>
          </a:p>
          <a:p>
            <a:pPr lvl="1" marL="7430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signed Agreement to Participate and Consent is needed with the CDC in order to share your information with CMS</a:t>
            </a:r>
            <a:endParaRPr b="0" lang="en-US" sz="20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IRFs with CCN with “T” or “R” in 3</a:t>
            </a:r>
            <a:r>
              <a:rPr b="0" lang="en-US" sz="2800" spc="-1" strike="noStrike" baseline="30000">
                <a:solidFill>
                  <a:srgbClr val="000000"/>
                </a:solidFill>
                <a:latin typeface="Calibri"/>
              </a:rPr>
              <a:t>rd</a:t>
            </a:r>
            <a:r>
              <a:rPr b="0" lang="en-US" sz="2800" spc="-1" strike="noStrike">
                <a:solidFill>
                  <a:srgbClr val="000000"/>
                </a:solidFill>
                <a:latin typeface="Calibri"/>
              </a:rPr>
              <a:t> position, will be identified as a location within an acute care facility</a:t>
            </a:r>
            <a:endParaRPr b="0" lang="en-US" sz="28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 NHSN enrollment of your IRF contact CDC </a:t>
            </a:r>
            <a:r>
              <a:rPr b="0" lang="en-US" sz="2800" spc="-1" strike="noStrike" u="sng">
                <a:solidFill>
                  <a:srgbClr val="0000ff"/>
                </a:solidFill>
                <a:uFillTx/>
                <a:latin typeface="Calibri"/>
                <a:hlinkClick r:id="rId1"/>
              </a:rPr>
              <a:t>NHSN@cdc.gov</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Before you begin the enrollment process:</a:t>
            </a:r>
            <a:endParaRPr b="0" lang="en-US" sz="36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now your facility’s CCN ID.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CDC NHSN Urinary tract infection diagnostic criteria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 Technical and legal requirements for the NHS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NOT registered with CDC NHSN: What to Do </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HSN Enrollment/Registration</a:t>
            </a:r>
            <a:endParaRPr b="0" lang="en-US" sz="44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you determine that your facility is not already enrolled within NHS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ppoint a person from your facility as the NHSN Facility Administrator to enroll the facility in NHSN.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plete the online training.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nroll in NHS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gister with NHSN</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Apply for a CDC Digital Certificate </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roll in NHSN by completing the necessary contact information and survey form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int, sign, and return consent form to CDC</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f Your Facility is ALREADY enrolled in CDC NHSN: What to Do</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asic Steps if your Facility is already Enrolled in NHSN</a:t>
            </a:r>
            <a:endParaRPr b="0" lang="en-US" sz="28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lete the online NHSN training</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termine if the rehab unit has already been added as a location within your NHSN facility</a:t>
            </a:r>
            <a:endParaRPr b="0" lang="en-US" sz="3200" spc="-1" strike="noStrike">
              <a:solidFill>
                <a:srgbClr val="000000"/>
              </a:solidFill>
              <a:latin typeface="Calibri"/>
            </a:endParaRPr>
          </a:p>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llow online directions to appropriately set up your rehab unit to submit data to CM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ips and Hint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enrollment can be found here: </a:t>
            </a:r>
            <a:r>
              <a:rPr b="0" lang="en-US" sz="2400" spc="-1" strike="noStrike" u="sng">
                <a:solidFill>
                  <a:srgbClr val="0000ff"/>
                </a:solidFill>
                <a:uFillTx/>
                <a:latin typeface="Calibri"/>
                <a:hlinkClick r:id="rId1"/>
              </a:rPr>
              <a:t>http://www.cdc.gov/nhsn/FAQ_enrollment.html</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requently asked questions about the NHSN in general can be found here: </a:t>
            </a:r>
            <a:r>
              <a:rPr b="0" lang="en-US" sz="2400" spc="-1" strike="noStrike" u="sng">
                <a:solidFill>
                  <a:srgbClr val="0000ff"/>
                </a:solidFill>
                <a:uFillTx/>
                <a:latin typeface="Calibri"/>
                <a:hlinkClick r:id="rId2"/>
              </a:rPr>
              <a:t>http://www.cdc.gov/nhsn/FAQ_general.htm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o send questions and/or comments about the NHSN, send an email to: </a:t>
            </a:r>
            <a:r>
              <a:rPr b="0" lang="en-US" sz="2400" spc="-1" strike="noStrike" u="sng">
                <a:solidFill>
                  <a:srgbClr val="0000ff"/>
                </a:solidFill>
                <a:uFillTx/>
                <a:latin typeface="Calibri"/>
                <a:hlinkClick r:id="rId3"/>
              </a:rPr>
              <a:t>nhsn@cdc.gov</a:t>
            </a:r>
            <a:r>
              <a:rPr b="0" lang="en-US" sz="2400" spc="-1" strike="noStrike">
                <a:solidFill>
                  <a:srgbClr val="000000"/>
                </a:solidFill>
                <a:latin typeface="Calibri"/>
              </a:rPr>
              <a:t>. Each message will be forwarded to the appropriate person and a response will be sent to you.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porting CAUTIs Using NHSN</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Monthly Reporting </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mplete a monthly summary form indicating the number of indwelling catheter days for the location must be reported, even if that number was zero, using the ICU/Other Denominator form</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were no CAUTIs for the month: Check the “Report No Events: CAUTI” box on the Denominator for Intensive Care Unit/Other Locations screen with the NHSN application</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f there is a CAUTI: fill out a Urinary Tract Infection event form for each CAUTI identified in the rehab location(s).</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egislative Mandate</a:t>
            </a:r>
            <a:endParaRPr b="0" lang="en-US" sz="44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tion 3004 of the Patient Protection and Affordable Care Act (PPACA), was passed in March, 2010</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 rate year 2014, and each subsequent year thereafter, failure to submit required quality data to CMS shall result in a 2 percentage point reduction to the annual increase factor for payments made for discharges occurring during that fiscal yea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elp Desks</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Questions about:</a:t>
            </a:r>
            <a:endParaRPr b="0" lang="en-US" sz="28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PAI data coding or IRF-PAI Data submission:</a:t>
            </a:r>
            <a:br>
              <a:rPr sz="2800"/>
            </a:br>
            <a:r>
              <a:rPr b="0" lang="en-US" sz="2400" spc="-1" strike="noStrike">
                <a:solidFill>
                  <a:srgbClr val="000000"/>
                </a:solidFill>
                <a:latin typeface="Calibri"/>
              </a:rPr>
              <a:t>Phone: 1-800-339-9313 or email: </a:t>
            </a:r>
            <a:r>
              <a:rPr b="0" lang="en-US" sz="2400" spc="-1" strike="noStrike" u="sng">
                <a:solidFill>
                  <a:srgbClr val="0000ff"/>
                </a:solidFill>
                <a:uFillTx/>
                <a:latin typeface="Calibri"/>
                <a:hlinkClick r:id="rId1"/>
              </a:rPr>
              <a:t>help@qtso.com</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CAUTI data or submission or NHSN registration:</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2"/>
              </a:rPr>
              <a:t>NHSN@cdc.gov</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lity measure calculation, data submission deadlines, the new pressure ulcer items:</a:t>
            </a:r>
            <a:br>
              <a:rPr sz="2800"/>
            </a:br>
            <a:r>
              <a:rPr b="0" lang="en-US" sz="2400" spc="-1" strike="noStrike">
                <a:solidFill>
                  <a:srgbClr val="000000"/>
                </a:solidFill>
                <a:latin typeface="Calibri"/>
              </a:rPr>
              <a:t>Email: </a:t>
            </a:r>
            <a:r>
              <a:rPr b="0" lang="en-US" sz="2400" spc="-1" strike="noStrike" u="sng">
                <a:solidFill>
                  <a:srgbClr val="0000ff"/>
                </a:solidFill>
                <a:uFillTx/>
                <a:latin typeface="Calibri"/>
                <a:hlinkClick r:id="rId3"/>
              </a:rPr>
              <a:t>IRF.questions@cms.hhs.gov</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echnical Training Opportunities for IRF Providers</a:t>
            </a:r>
            <a:endParaRPr b="0" lang="en-US" sz="2800" spc="-1" strike="noStrike">
              <a:solidFill>
                <a:srgbClr val="000000"/>
              </a:solidFill>
              <a:latin typeface="Calibri"/>
            </a:endParaRPr>
          </a:p>
        </p:txBody>
      </p:sp>
      <p:sp>
        <p:nvSpPr>
          <p:cNvPr id="94" name=""/>
          <p:cNvSpPr txBox="1"/>
          <p:nvPr/>
        </p:nvSpPr>
        <p:spPr>
          <a:xfrm>
            <a:off x="457200" y="1143000"/>
            <a:ext cx="8229600" cy="51055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RF-PAI was developed by the CM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patient Rehabilitation Validation and Entry system (jIRVEN) is a free, Java based application that provides an option for facilities to collect and maintain facility, patient and IRF-PAI dat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4 recorded WebEx training videos will be available by the week of August 20th that will review some key areas of the jIRVEN tool. </a:t>
            </a:r>
            <a:endParaRPr b="0" lang="en-US" sz="24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1 </a:t>
            </a:r>
            <a:r>
              <a:rPr b="0" lang="en-US" sz="2000" spc="-1" strike="noStrike">
                <a:solidFill>
                  <a:srgbClr val="000000"/>
                </a:solidFill>
                <a:latin typeface="Calibri"/>
              </a:rPr>
              <a:t>- How to login into the tool &amp; how to add facility and user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2 </a:t>
            </a:r>
            <a:r>
              <a:rPr b="0" lang="en-US" sz="2000" spc="-1" strike="noStrike">
                <a:solidFill>
                  <a:srgbClr val="000000"/>
                </a:solidFill>
                <a:latin typeface="Calibri"/>
              </a:rPr>
              <a:t>– How to create patient and assessment inform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3 </a:t>
            </a:r>
            <a:r>
              <a:rPr b="0" lang="en-US" sz="2000" spc="-1" strike="noStrike">
                <a:solidFill>
                  <a:srgbClr val="000000"/>
                </a:solidFill>
                <a:latin typeface="Calibri"/>
              </a:rPr>
              <a:t>– How to import and export assessment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ebex #4 </a:t>
            </a:r>
            <a:r>
              <a:rPr b="0" lang="en-US" sz="2000" spc="-1" strike="noStrike">
                <a:solidFill>
                  <a:srgbClr val="000000"/>
                </a:solidFill>
                <a:latin typeface="Calibri"/>
              </a:rPr>
              <a:t>– Review of the reports available within the jIRVEN tool.</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echnical Training Opportunities for IRF Providers</a:t>
            </a:r>
            <a:endParaRPr b="0" lang="en-US" sz="44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 recorded WebEx training videos will be available the week of September 3 that will review key areas of the Submission System:</a:t>
            </a:r>
            <a:endParaRPr b="0" lang="en-US" sz="32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Submission Process - Recorded WebEx posted week of 9/3/12</a:t>
            </a:r>
            <a:endParaRPr b="0" lang="en-US" sz="2800" spc="-1" strike="noStrike">
              <a:solidFill>
                <a:srgbClr val="000000"/>
              </a:solidFill>
              <a:latin typeface="Calibri"/>
            </a:endParaRPr>
          </a:p>
          <a:p>
            <a:pPr lvl="1" marL="743040" indent="-285840">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RF Assessment and Validation Reports - Recorded WebEx posted week of 9/3/1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pcoming Open Door Forums</a:t>
            </a:r>
            <a:endParaRPr b="0" lang="en-US"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August 16, 2012</a:t>
            </a:r>
            <a:br>
              <a:rPr sz="3200"/>
            </a:br>
            <a:r>
              <a:rPr b="0" lang="en-US" sz="3200" spc="-1" strike="noStrike">
                <a:solidFill>
                  <a:srgbClr val="000000"/>
                </a:solidFill>
                <a:latin typeface="Calibri"/>
              </a:rPr>
              <a:t>1:00 p.m. – 2:30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September 20,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a:p>
            <a:pPr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hursday October 18, 2012 </a:t>
            </a:r>
            <a:br>
              <a:rPr sz="3200"/>
            </a:br>
            <a:r>
              <a:rPr b="0" lang="en-US" sz="3200" spc="-1" strike="noStrike">
                <a:solidFill>
                  <a:srgbClr val="000000"/>
                </a:solidFill>
                <a:latin typeface="Calibri"/>
              </a:rPr>
              <a:t>1:00 p.m. – 2:30 p.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Reporting Data</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MS, with input from stakeholders and the public, selects quality measures for the program</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ubmitted from providers is used 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termine compliance with the reporting requirements of Section 3004</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culate quality measure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ill be used at a future date to publicly report quality data (no date set)</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is NOT used to penalize providers for performance on quality meas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Quality Measures</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RFs must begin to submit their quality measure data on October 1, 2012 for the following quality meas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or Worsened Pressure Ulc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heter-Associated Urinary Tract Infections (CAUTI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722160" y="1143000"/>
            <a:ext cx="7772400" cy="462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Quality Measure-</a:t>
            </a:r>
            <a:br>
              <a:rPr sz="4000"/>
            </a:br>
            <a:r>
              <a:rPr b="0" lang="en-US" sz="4000" spc="-1" strike="noStrike">
                <a:solidFill>
                  <a:srgbClr val="000000"/>
                </a:solidFill>
                <a:latin typeface="Calibri"/>
              </a:rPr>
              <a:t> New or Worsening Pressure Ulcers</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nges to the IRF-PAI</a:t>
            </a:r>
            <a:endParaRPr b="0" lang="en-US" sz="4400" spc="-1" strike="noStrike">
              <a:solidFill>
                <a:srgbClr val="000000"/>
              </a:solidFill>
              <a:latin typeface="Calibri"/>
            </a:endParaRPr>
          </a:p>
        </p:txBody>
      </p:sp>
      <p:sp>
        <p:nvSpPr>
          <p:cNvPr id="53" name=""/>
          <p:cNvSpPr txBox="1"/>
          <p:nvPr/>
        </p:nvSpPr>
        <p:spPr>
          <a:xfrm>
            <a:off x="457200" y="1295280"/>
            <a:ext cx="8229600" cy="5029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PUSH tool on the IRF-PAI has been replaced with updated pressure ulcer items (48A through 50D)</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hough an IRF may decide not to submit pressure ulcer data (items 48A through 50D), failure to complete these items will result in payment reduction of two percentage points starting in Fiscal Year 2014</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luntary Quality Indicators have been removed</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spiratory Statu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in</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afe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4" descr="Updated IRF-PAI"/>
          <p:cNvPicPr/>
          <p:nvPr/>
        </p:nvPicPr>
        <p:blipFill>
          <a:blip r:embed="rId1"/>
          <a:stretch/>
        </p:blipFill>
        <p:spPr>
          <a:xfrm>
            <a:off x="2057400" y="228600"/>
            <a:ext cx="5770440" cy="6308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Content Placeholder 3" descr="Updated IRF-PAI"/>
          <p:cNvPicPr/>
          <p:nvPr/>
        </p:nvPicPr>
        <p:blipFill>
          <a:blip r:embed="rId1"/>
          <a:stretch/>
        </p:blipFill>
        <p:spPr>
          <a:xfrm>
            <a:off x="1600200" y="228600"/>
            <a:ext cx="5610240" cy="6308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0T02:19:13Z</dcterms:created>
  <dc:creator>aetlinger</dc:creator>
  <dc:description/>
  <dc:language>en-US</dc:language>
  <cp:lastModifiedBy>CMS</cp:lastModifiedBy>
  <cp:lastPrinted>2012-07-24T18:14:02Z</cp:lastPrinted>
  <dcterms:modified xsi:type="dcterms:W3CDTF">2012-07-25T17:21:14Z</dcterms:modified>
  <cp:revision>40</cp:revision>
  <dc:subject/>
  <dc:title> Special Open Door Forum</dc:title>
</cp:coreProperties>
</file>