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D118310-ADAE-42BE-B726-EA0700772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5CD0A31-50D6-4A9F-9656-C0026260F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EC12EA3-7048-449F-960C-EFA6A0C2F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C41A08C-876C-4B9E-9848-7767EEC60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33D2B3D-07D5-4D7B-88A8-970EEFB37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94BE32C-ADF3-498F-8B41-DE732E89C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B491694-914B-4556-8D9D-718C6139C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9FCC00E-9B1F-4160-962B-5E5E2092A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85DBB60-80DE-45FF-BE51-0E7E310D9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2ED81EA-B02E-4506-A9E5-9D0526853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D58E667-5A49-42DD-A31A-D0DA38CFC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Univers 47 CondensedLight"/>
              </a:rPr>
              <a:t>NOTE:</a:t>
            </a:r>
            <a:r>
              <a:rPr b="0" lang="en-US" sz="800" spc="-1" strike="noStrike">
                <a:solidFill>
                  <a:srgbClr val="000000"/>
                </a:solidFill>
                <a:latin typeface="Univers 47 CondensedLight"/>
              </a:rPr>
              <a:t> once submitted and accepted the manual form process must be utilized to correct the subreq valu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8959ADE-C6F3-42D2-A4D8-63D494D60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3EB3336-3FB4-46D7-8029-674E33F34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7086600" y="6332400"/>
            <a:ext cx="68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A12E-094F-48A5-BAD4-F647BE8B904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qtso.com/ravendownload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help@qtso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Image depicting the JAVA logo, the CMS logo, and the title Inpatient Rehabilitation Validation and Entry System (jIRVEN)."/>
          <p:cNvPicPr/>
          <p:nvPr/>
        </p:nvPicPr>
        <p:blipFill>
          <a:blip r:embed="rId1"/>
          <a:stretch/>
        </p:blipFill>
        <p:spPr>
          <a:xfrm>
            <a:off x="1208160" y="1128600"/>
            <a:ext cx="672768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5720" y="1599840"/>
            <a:ext cx="736596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ort/ Exp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5720" y="1599840"/>
            <a:ext cx="76518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xt layout based on IRF-PAI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 for submission to ASA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4200" y="374760"/>
            <a:ext cx="8244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idation Utility Tool (VU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16080" y="1599840"/>
            <a:ext cx="75391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UT – Validation Utility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alidate IRF-PAI submission files in XML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forces edits that are mapped to IRF-PAI items, as published in IRF-PAI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gration To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5720" y="1600200"/>
            <a:ext cx="749124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es Facility data for Inpatient Rehabilitation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grate Patients from IRVEN into j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selects the .mdb from 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tient Match is utilized during migration pro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ctive database and\or the archive database may be migrate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s Last Assessmen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2d2d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2d2d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Downloa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15720" y="1599840"/>
            <a:ext cx="76518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RVEN can be download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s://www.qtso.com/IRVENdownloa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M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33cc"/>
                </a:solidFill>
                <a:uFillTx/>
                <a:latin typeface="Arial"/>
              </a:rPr>
              <a:t>https://www.cms.gov/Medicare/Medicare-Fee-for-Service-Payment/InpatientRehabFacPPS/Software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of the reference documents can also be located at the above li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71360" y="1442880"/>
            <a:ext cx="753876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QTSO help de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800-339-93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elp@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4200" y="377640"/>
            <a:ext cx="8244000" cy="63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RVEN vs jIRV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15720" y="1599840"/>
            <a:ext cx="75582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l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security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urity Ques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ssword Expiration every 60 day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notifications when latest version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utilized (internet connection requi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RVEN vs jIRV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6080" y="1600200"/>
            <a:ext cx="70228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questions now appear in a tre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instead of tab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running form on one page vs. a section per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s are applied as questions are ans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6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 \ Error box is on the same screen as the data entry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6080" y="1599840"/>
            <a:ext cx="76644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atient Rehabilitation and Patient Assessment Collection User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creation of multiple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s Patient Match to prevent duplicate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s by specific column if heading is sele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earch for Patients by using specific search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16080" y="1599840"/>
            <a:ext cx="670248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8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unctionality can be turned on and of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eyboard alterna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404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,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creen reader software (i.e. JAW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peech recognition software (i.e. Dragon Naturally Speak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4200" y="378000"/>
            <a:ext cx="82440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16080" y="1599840"/>
            <a:ext cx="7407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is prompted to back up database when exiting j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IRVEN back up should be directed to an external dr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restore of database (i.e. PC cras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backup of database during 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6080" y="1600200"/>
            <a:ext cx="671184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ailable for each item of the form by selecting the Help Icon, Help Menu, or F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IRVEN User Guide is included with the installation of jIRVE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800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16080" y="1600200"/>
            <a:ext cx="74707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tem Administrato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or Delete Facility, Users, and Patients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Modify, Inactivate, or Delete assessm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or Export  Patient and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15720" y="1599840"/>
            <a:ext cx="73659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a Ent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or Edit Patient data for all assessme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 user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User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Jennifer Parrish</cp:lastModifiedBy>
  <cp:lastPrinted>2012-04-28T10:13:26Z</cp:lastPrinted>
  <dcterms:modified xsi:type="dcterms:W3CDTF">2012-05-11T11:55:50Z</dcterms:modified>
  <cp:revision>765</cp:revision>
  <dc:subject>MDS Classroom Training</dc:subject>
  <dc:title>Section L: Oral/Dental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B580D97-3256-43EF-8DEF-5DCD0C1E0C85</vt:lpwstr>
  </property>
  <property fmtid="{D5CDD505-2E9C-101B-9397-08002B2CF9AE}" pid="3" name="ArticulatePath">
    <vt:lpwstr>MDS_PP_SecL_092410_LS</vt:lpwstr>
  </property>
  <property fmtid="{D5CDD505-2E9C-101B-9397-08002B2CF9AE}" pid="4" name="ArticulateProjectFull">
    <vt:lpwstr>G:\MDS\development\MDS_SectionL\MDS_PP_SecL_092410_LS.ppta</vt:lpwstr>
  </property>
  <property fmtid="{D5CDD505-2E9C-101B-9397-08002B2CF9AE}" pid="5" name="ArticulateUseProject">
    <vt:lpwstr>1</vt:lpwstr>
  </property>
  <property fmtid="{D5CDD505-2E9C-101B-9397-08002B2CF9AE}" pid="6" name="_AdHocReviewCycleID">
    <vt:r8>-1408970448</vt:r8>
  </property>
  <property fmtid="{D5CDD505-2E9C-101B-9397-08002B2CF9AE}" pid="7" name="_AuthorEmail">
    <vt:lpwstr>Caroline.Gallaher@cms.hhs.gov</vt:lpwstr>
  </property>
  <property fmtid="{D5CDD505-2E9C-101B-9397-08002B2CF9AE}" pid="8" name="_AuthorEmailDisplayName">
    <vt:lpwstr>Gallaher, Caroline D. (CMS/OCSQ)</vt:lpwstr>
  </property>
  <property fmtid="{D5CDD505-2E9C-101B-9397-08002B2CF9AE}" pid="9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10" name="_NewReviewCycle">
    <vt:lpwstr/>
  </property>
</Properties>
</file>