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24AF-55E6-4149-8EC8-C90572B1F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B71F-027C-414E-A71C-330521EE6A6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524-0EEE-4854-B9A7-BC5473D5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D541-CCC0-4D0B-8CC2-A4AD5D41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3859-FA68-4442-AC00-17258254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E81-1E4E-47B8-BD4D-E256AD86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6FBB-D5B2-42EC-AB7C-4198CB3B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F61D-515E-4547-BAF9-196D979C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17A6-2A2A-4D13-9CCE-19DA197A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D45D-322A-42D4-9B41-7DE456A1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8B54-903B-4CBA-B8FF-B0F02B56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7C18-A8A6-4142-9005-0E0B01B5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D719-4F62-4635-8594-3DFD259B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9EA-0B64-4933-8334-57B0E14E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CF46-7222-4993-85F8-4FCC051F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A6CF-F69B-48E1-A7E8-1EC40990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84EF-CDAA-44E8-A159-9BDA2FF6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1A94-5677-4692-AACA-2B24BECE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1C99-14E6-4AF4-9902-59964AC5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741-E152-4D07-9678-0D507912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560C-AA42-4FF6-AAC9-5EFA83E5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BDE-41DF-4FCB-9E10-691EA38B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15DE-FE3B-487B-A795-37ACFCF2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B98-2FDB-4D18-BE07-D2E65E77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9F2-BE7D-44A8-9BB6-6B421435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BA0-CD21-4143-824C-72F98EAD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47D9-0F8A-4F20-9C52-DFC1058092E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F21A-6419-4F78-B662-44254BE7843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h/henryford106096.html" TargetMode="External"/><Relationship Id="rId2" Type="http://schemas.openxmlformats.org/officeDocument/2006/relationships/hyperlink" Target="http://www.brainyquote.com/quotes/quotes/s/stevejobs126246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37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590920" y="4952880"/>
            <a:ext cx="6400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ack Williams, Dire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04920" y="380880"/>
            <a:ext cx="1600200" cy="1600200"/>
          </a:xfrm>
          <a:prstGeom prst="rect">
            <a:avLst/>
          </a:prstGeom>
          <a:solidFill>
            <a:srgbClr val="9f9d4f"/>
          </a:solidFill>
          <a:ln w="0">
            <a:noFill/>
          </a:ln>
          <a:effectLst>
            <a:outerShdw dist="222200" dir="8939309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A 3004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e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njo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ursing Home MDS – June 199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me Health OASIS – August 19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patient Rehab Facility PAI – Januar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ng Bed MDS – Jul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ng Term Care Hospital CDS – October 20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tal Assessments (through 04/25/12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220,0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 ~163,5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4,7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verage Monthly Assessments Ad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1,6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~1,1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38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A 300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as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blic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sessment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ealthcare Acquired Infections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m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ffice of Clinical Standards and 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id and CHIP Ser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s for Disease Control and Prevention – CD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jo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arbor Plac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aryland Science Cent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Aquari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Maritime Muse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ood Eat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www.baltimore.or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 means doing it right when no one is looking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1"/>
              </a:rPr>
              <a:t>Henry F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 a yardstick of quality. Some people aren't used to an environment where excellence is expected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2"/>
              </a:rPr>
              <a:t>Steve Job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8:08Z</dcterms:created>
  <dc:creator>IFMC Employee</dc:creator>
  <dc:description/>
  <dc:language>en-US</dc:language>
  <cp:lastModifiedBy>Jennifer Parrish</cp:lastModifiedBy>
  <dcterms:modified xsi:type="dcterms:W3CDTF">2012-05-11T11:47:03Z</dcterms:modified>
  <cp:revision>65</cp:revision>
  <dc:subject/>
  <dc:title>QIES Year in Review -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5215944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