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F23E-9C24-4901-BE03-FD666055E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638D-B496-468F-86A8-F1A50D36F52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E7FC-FE7C-48AC-B40D-D23765D7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20CE-B638-4C8F-9E6C-515F06BB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A691-7C2E-4462-95A0-0719D1F2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3310-8F64-4FE8-A9CA-A9EB3DF0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3170-70E9-4614-AF23-7CB9C3C7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9132-3CBD-464E-B3A9-192832F9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6944-9748-4A22-B051-7C1699E3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35B0-34E8-422B-878E-3E9D4191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0742-1221-45A9-8CE8-5E0FE055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4E08-B86D-4202-846E-F4E1D76B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6D82-415C-44D7-81AA-B07DDAC5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E2AA-1D3A-49D0-98D1-22A6B11A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3B6C-B27B-4F75-BB28-38789612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C387-EA93-42DB-91AA-FF54768A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1515-9CAC-4C10-B868-A71B0DD8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BFC6-DDDF-4EF3-A94F-4ECD195A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B4CE-18F5-4699-AF0E-E4E842C0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888A-C036-4E50-BFFE-928C1302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5CB6-9825-4E44-B8B7-2AD6703E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48D0-B54D-4116-8385-BD15C788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EB63-DA91-4BF1-9538-E452629B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630D-93F2-481A-BDF5-122C4DB2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E8B5-78B8-465F-9542-E139B275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814E-70E4-4C64-8649-66A91654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5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222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22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23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24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25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26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27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28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29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30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1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32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33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34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35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36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37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38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39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40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41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42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43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44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45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46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47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48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49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50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51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52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53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54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55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56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57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58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59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60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61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62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63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64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65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66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67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68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69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70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71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72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73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74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75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76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77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78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79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80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81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82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83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84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85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86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87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88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89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90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91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92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93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94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95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96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97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98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99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200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201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202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203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204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205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206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207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208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209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210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211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212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213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214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215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216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217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218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219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4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6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7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4478-5BDA-4024-A8DD-86E4CA6B6DC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325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21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32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224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225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226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227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228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229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230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231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232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233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234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235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236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237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238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39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40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41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42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3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44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45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46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47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48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249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250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251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252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253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254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255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256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257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258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259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260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261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262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263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264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265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266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267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268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269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270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271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272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273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274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275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276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277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278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279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280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281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282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283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284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285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286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287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288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289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290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291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292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293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294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295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296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297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298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299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300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301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302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303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304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305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306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307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308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309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310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311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312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313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314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315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316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317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318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319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320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321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220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21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3E85-49FC-4373-A1B6-AA8C2B2315A0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h/henryford106096.html" TargetMode="External"/><Relationship Id="rId2" Type="http://schemas.openxmlformats.org/officeDocument/2006/relationships/hyperlink" Target="http://www.brainyquote.com/quotes/quotes/s/stevejobs126246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37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elc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2590920" y="4952880"/>
            <a:ext cx="6400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Jack Williams, Direct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04920" y="380880"/>
            <a:ext cx="1600200" cy="1600200"/>
          </a:xfrm>
          <a:prstGeom prst="rect">
            <a:avLst/>
          </a:prstGeom>
          <a:solidFill>
            <a:srgbClr val="9f9d4f"/>
          </a:solidFill>
          <a:ln w="0">
            <a:noFill/>
          </a:ln>
          <a:effectLst>
            <a:outerShdw dist="222200" dir="8939309" blurRad="0" rotWithShape="0">
              <a:srgbClr val="003366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CA 3004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ea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njo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ursing Home MDS – June 1998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me Health OASIS – August 1999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patient Rehab Facility PAI – Januar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wing Bed MDS – Jul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ong Term Care Hospital CDS – October 201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958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otal Assessments (through 04/25/12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220,0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 ~163,5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4,7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verage Monthly Assessments Add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1,6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~1,1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38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A 3004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easu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ublic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ssessment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ealthcare Acquired Infections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du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am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ffice of Clinical Standards and 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of Medic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id and CHIP Ser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s for Disease Control and Prevention – CD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joy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arbor Pla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aryland Science Cent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altimore Aquariu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altimore Maritime Museu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ood Eat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ww.baltimore.or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spi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 means doing it right when no one is looking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1"/>
              </a:rPr>
              <a:t>Henry For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e a yardstick of quality. Some people aren't used to an environment where excellence is expected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2"/>
              </a:rPr>
              <a:t>Steve Job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5:18:08Z</dcterms:created>
  <dc:creator>IFMC Employee</dc:creator>
  <dc:description/>
  <dc:language>en-US</dc:language>
  <cp:lastModifiedBy>Charles  Padgett</cp:lastModifiedBy>
  <dcterms:modified xsi:type="dcterms:W3CDTF">2012-07-24T13:44:42Z</dcterms:modified>
  <cp:revision>65</cp:revision>
  <dc:subject/>
  <dc:title>QIES Year in Review - 2005</dc:title>
</cp:coreProperties>
</file>