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69029-6BBC-4B51-9B43-EC72E96F44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7A8CA-0FA2-4E35-A7D2-197A5B01B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F00D0-6868-4528-AD18-6FD9286CD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3184F-77B1-46BE-967E-5AF737EF66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53EBD-3552-48D9-AECB-441C47A2D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AFFCC-4843-423F-AB38-E930730D8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732C3-7FA3-4E46-AFE0-BF396F1F6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24056-35C4-4E1D-B622-95027B7827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25B6B-107F-45E9-8B76-B38789987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 resident assessment validation and entry system, inpatient rehabilitation validation and entry system, HH assessment validation and entry system, LTCH Assessment Submission Entry and Repor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F164C-E1CF-4321-B7DB-9D266797F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6EC9-EC81-4F73-9C14-CA0C6858D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5814-09F3-43C0-B039-8CB0915AF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CB82-81AC-4964-8BA6-0D058A54E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17E0-A98B-41D0-8E83-C54C356BD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496C-FF42-4488-AA1C-F95B90E6A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378D-17CD-476F-ABAB-E4879B757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244F-3DCA-479A-AE33-DE8DB1AD6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40FF-FBCB-4306-92A2-E31B0CD04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D0F7-C5B6-448D-8597-CE86EEE13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0EC8-862B-4F3B-B75C-4A4424D1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1A47-F738-44F0-B679-716534FB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D70D-B69F-4C56-B931-4D82A01C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96DFF-A81E-4DA3-A66E-49E3DC044C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HHS Logo"/>
          <p:cNvPicPr/>
          <p:nvPr/>
        </p:nvPicPr>
        <p:blipFill>
          <a:blip r:embed="rId2"/>
          <a:stretch/>
        </p:blipFill>
        <p:spPr>
          <a:xfrm>
            <a:off x="0" y="0"/>
            <a:ext cx="762120" cy="9144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CMS Identity Mark"/>
          <p:cNvPicPr/>
          <p:nvPr/>
        </p:nvPicPr>
        <p:blipFill>
          <a:blip r:embed="rId3"/>
          <a:stretch/>
        </p:blipFill>
        <p:spPr>
          <a:xfrm>
            <a:off x="7467480" y="0"/>
            <a:ext cx="1676520" cy="61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vision of National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259056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ionalizing Data Submission for ACA Section 3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cy Mandl, 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sion of National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ment Data Uses and Us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ending on the provider type, this data is used for  purposes such as payment, fraud investigation, quality measurement, and  survey and certification purposes, care planning, public reporting, and resear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es CMS to monitor and report on the  quality and effectiveness and services provided to beneficia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03408-95F2-422E-9455-3F67060804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U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es consumers to make educated choices about providers (e.g., Nursing Home Compar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es quality improvement within provid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s include providers, CMS CO, State and Regional Survey and Certification, OIG, Ombudsmen, researchers, and oth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36F99-228D-42D1-BF1E-C492E15E3D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Partn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serve as liaison between policy staff and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Survey A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al Off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MS Stakeholders (e.g., Office of Clinical Standards and Quality, Survey &amp; Certification, Centers for Medicare, Office of Information Syste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rs/ Suppl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55E7C-5712-4C84-92FA-D3AA0773F9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Partn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lity Improvements Organiz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scal Intermediaries/ Medicare Administrative Contra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al Home Health Intermedi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rediting Organiz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nd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porations and Researc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Federal A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E0D5C-7A6B-4710-96B8-FF167C7B67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vider Stakehol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QIES supports data for over  291,100 providers/supplier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Hospital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, e.g. acute, LTCHs, IRFs, CAHs, etc.: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6,179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Skilled Nursing Facility (SNF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15,10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Nursing Facility (NF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609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ICF/MR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6,43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Home Health Agency (HHA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11,556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Hospic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3,52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Outpatient Physical Therapy (OPT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2,51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Comprehensive Outpatient Rehabilitation Facility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(CORF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339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X-Ray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56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037D-31E0-4C72-A356-5B8BCA7328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-Stage Renal Dialysis Facility (ESR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,6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ral  Health Clinics (RHC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,8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bulatory Surgical Centers (ASC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,3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gan Procurement Organization (OPO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unity Mental Health Centers (CMHC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derally Qualified Health Centers (FQHC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,8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sychiatric Residential Treatment Facilities (PRTF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nical Laboratory Improvement Amendments (CLI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23,6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FCAA8-2669-45D4-8382-50225323EA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mi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e will now hear more about the QIES data submissions process as it relates to your data submiss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3D36F-1383-4278-84F6-0EB4EE4B7B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1109A-806D-4DB5-9089-44BE86C4FD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Are W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Division of National Systems is located within the Data and Systems Group (DSG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SG is located within the Center for Medicaid and CHIP (Children’s Health Insurance Program) Services (CMCS) at CM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We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7524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CMS’ fulfillment of statutory quality assurance responsibilities under the Social Security A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major initiatives, such as Home Health Compare and Nursing Home Comp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, evaluate and implement data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operations related to the submission of the data collected for CMS using specified assessment tools,  e.g., the IRF-P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80714-4A44-4CBD-AE17-B9B2543524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We Do?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440" y="17524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d collect quality data on certified providers /suppliers, e.g. Home Health Agenc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Survey &amp; Certification efforts, e.g. Skilled Nursing Facil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data system operations for data that is used to improve the quality and effectiveness of services provided by Medicare/ Medicaid/ CL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308D4-640F-4A22-BB92-3B01B5E616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We Do?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NS supports the submission of data files to CMS system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lity Improvement and Evaluation System (QIE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of QIES is the Assessment Submission and Processing (ASAP) System which will be used to collect LTCH submis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data is stored in the QIES National Datab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6C349-6178-4ACB-B120-9D13840CAC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IES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at Is QIE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lity Improvement and Evaluation System (QIES) serves as the focal point for resident and patient assessments, quality indicators, survey and certification, complaint, and enforcement information concerning providers and suppli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QIES we maintain and collect quality data on certified providers/suppli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CFEF7-D3F3-4294-9E40-1681A63459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4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IES permits information to be shared quickly and conveniently between federal and state govern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IES users total over 100,0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ins data on 17 different types of providers/ suppliers totaling over 291,100 active facilities (as of 2/2011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32BC5-0AF1-49C4-B6BC-9BDA312318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954D2-0F9D-47A5-BF98-CB00FE7289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IES: The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IES already provides data submission for all Certified Inpatient Rehabilitation Facilities, Home Health Agencies, Skilled Nursing Facilities/ Nursing Facilities,  and Swing Bed uni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inning October 1, 2012, QIES will also provide for data submission for all certified LTCHs as we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Assessment 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44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ssment Data instruments currently submitted by specific provider types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atient Rehabilitation Facility Patient Assessment Instrument, IRF-P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um Data Set,  MDS 3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come and Assessment Information Set, OASIS-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est: LTCH CARE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free software for all of these sett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RAVEN, IRVEN, HAVEN, LA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8442-D26B-4B73-B087-475C721FFE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4T19:04:58Z</dcterms:created>
  <dc:creator>CMS</dc:creator>
  <dc:description/>
  <dc:language>en-US</dc:language>
  <cp:lastModifiedBy>Jennifer Parrish</cp:lastModifiedBy>
  <cp:lastPrinted>2012-04-28T11:44:49Z</cp:lastPrinted>
  <dcterms:modified xsi:type="dcterms:W3CDTF">2012-05-21T14:31:36Z</dcterms:modified>
  <cp:revision>1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953846888</vt:r8>
  </property>
  <property fmtid="{D5CDD505-2E9C-101B-9397-08002B2CF9AE}" pid="3" name="_AuthorEmail">
    <vt:lpwstr>Caroline.Gallaher@cms.hhs.gov</vt:lpwstr>
  </property>
  <property fmtid="{D5CDD505-2E9C-101B-9397-08002B2CF9AE}" pid="4" name="_AuthorEmailDisplayName">
    <vt:lpwstr>Gallaher, Caroline D. (CMS/OCSQ)</vt:lpwstr>
  </property>
  <property fmtid="{D5CDD505-2E9C-101B-9397-08002B2CF9AE}" pid="5" name="_EmailSubject">
    <vt:lpwstr>Here are the Powerpoint slides and presentation handouts that I mentioned to you yesterday that ii will also need to have posted on the IRF QRP webpage</vt:lpwstr>
  </property>
  <property fmtid="{D5CDD505-2E9C-101B-9397-08002B2CF9AE}" pid="6" name="_NewReviewCycle">
    <vt:lpwstr/>
  </property>
</Properties>
</file>