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DS National Confer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3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arch 20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3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3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EC85-6BD9-4F22-AD7B-D55C409C01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0A23-8B10-489D-971F-C7DE15C69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rch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DS National Confere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F0BCE7-84CA-4658-A1A6-45E03362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47EC6A-2ECD-4A57-A1D9-2BCB52D2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8DA5AC-EF30-4F89-BDC6-C079D21B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990FDA-A148-4C55-BBB1-77C1287F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AA0BCD-CC25-46BB-9333-1B9BC1FA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C4F552-0116-435E-98D0-AED6F476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B7173B-011C-4862-BAB6-72DC6D3C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95FE43-C9B4-4B8B-9674-D46D083A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2059BA-892C-4661-8123-74C7718F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07252F-3B1E-437B-B64A-B0199B45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40D035-D842-4727-BC11-D33A9D00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D49E67-E887-4A90-9F4C-8468CD46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DA4C90-7084-4175-9713-1AE43C52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AC6A32-17D0-4C40-A926-9380B198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2F5C7B-A1D5-403C-9ACA-C0E7D9C7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B71BBE-4309-4C3A-BC2F-1153BF95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4030C5-5791-4D65-82E9-D097ADEE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5C168D-7931-49F7-B007-621BBD35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E48CAE-D7D8-4125-AD7E-D890A5DF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B8FC94-E4E0-40E7-93FC-8305DF4C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1497D8-A974-4A77-9F18-FD046784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C21118-09AF-419B-83A0-1816FE88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55FC83-4111-4100-B38C-1580AE51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1C8DF8-C3B0-4F15-B781-E7AB6B51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83E1D5-8981-4526-954C-1C7077EE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FF4B6E-22FC-46DA-B42A-09C5CE8E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88DA30-B533-4869-BC07-E429B94D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C5DA65-E53C-4142-8645-9EDFB436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E39820-B956-4917-B887-B601DEEE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A36629-D2A0-4214-91DF-82CA910C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BD549-FEBD-47E2-B90D-2FE4C26F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C8D2BF-F336-40EC-A61E-EB1D4A74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4902BB-CD5F-40CF-9CE7-5126E3B7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739088-A34A-4FC6-9BCF-2F6A1514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C9E9E2-7F1B-49B4-BF5C-8E327871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DBF6C3-2170-47BA-8F9F-46DC34F2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C1CB0C-EFBE-43F9-A61C-E45F7301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249018-4389-4134-BB43-411A5969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18BC063-FBD9-40FC-A3F6-959BE28C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36103E-F2C8-4823-9609-FA13CD10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1C3103-3527-4ECF-BDC9-0CA481BE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29B3D-9B6D-45F5-91AF-93A1A690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28B44B-7F36-411C-A615-EDDAD27D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181253-AE63-4404-AD2F-4B50602F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2C2836-05F6-4CBA-94FD-25A9BF82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81686D-0891-4E92-B8E0-74FF8102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89DC42-0447-4B25-97EE-411A1CEB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3EE19-329C-4A7F-BB26-82C8A599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31F4C-9760-4203-8270-D3AA672B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1540C-BA47-46DC-86A3-4F7AC6CA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8C45B-3999-446D-A9D9-DBE19126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8B930-E2C3-4D1C-9C59-1F05C093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320F8-E88D-4A91-AE18-F78A687D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4408C-2B89-40C3-9481-A3A2996E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72752-E95E-4422-B6BA-678F9461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E0621-7D93-4BE8-ABFA-7769A9DB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0B04A-CB8F-4DA0-A1AC-41AF3C9A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F2875-E702-4009-B283-E329A0FB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4F7974-2131-4092-B8A9-135748B4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EEA30-7A51-44AB-893B-2E59D491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709458-C6BD-4CF0-9834-5B2B1783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826EAE-7E45-4E3E-A395-E8470E6B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4DA678-D8FD-4D1D-BA19-050304CE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379CA1-963C-4DA9-830A-0B0CF61B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CECF36-FBC6-46CB-80BE-14F7565E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CE5B1A-6FB2-42AB-AAF2-3E04ED06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905328-F726-4318-8836-B2E0C6BE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B3ACC1-3942-45B9-B0A4-A58B4A4C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11A46A-CEFA-4E15-8136-5E1B20CB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E671E5-B181-4B50-885B-330651FA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AAA2B2-4FCA-4C5C-B261-48ACED81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564F39-A126-4BC4-80AD-159AE5BF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001D72-BE2D-4EA5-97B0-B1C41D56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899476-CCAA-4F3B-97AE-95398C91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9B8604-BC11-443C-8D0D-C42B25DD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275C79-1DCC-40B2-9632-96D56506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216DC9-2F2A-4E6B-8D06-D3C11859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12788C-71A2-4888-8944-4867331E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B0F920-0604-4648-9AC3-FF2A66CC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15523B-BE39-4637-A42D-C658C81E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E63A5F-AF7E-46C6-A989-84145BF1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6457D4-4FD8-40C4-8F69-2DBB2BDE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B9D2CA-1DDA-484F-B4D0-42F688FC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FBC608-173D-40D3-8C70-F4B55B86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4FB882-2FC9-4576-B7DA-D832F095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CF15EE-3094-4594-8FA8-C32FA5A3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06A0CF-F690-4946-B163-8162C2F4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F8F31C-0B09-46A3-B6ED-A696D747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AE5138-26D1-4EFD-A537-2F0AE0C0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2C8C38-3FC0-4DAC-AA79-E1B5FA17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9DEF1D-9A30-4957-A4AF-5A2BC9E6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EE730F-389D-4D49-ACC1-D970336C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1A7612-BC6C-4190-897D-80BE79A8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19AEB7-7F9B-479A-8575-3AF1BDFC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199B67-A22B-4C0E-B93E-AD9DFAC3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9393A3-395A-4100-BD9D-B90D4857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CF8696-3C9C-403B-AC87-759606AA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4F7A26-6069-44A2-8404-8C6E54C3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6CD044-C6D7-48C0-9E01-DB0C2469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CE4CE1-EF8C-4078-ABE6-256209DF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24C017-CFA9-483F-83AC-621DF29C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98FB3A-5ABD-4827-ABD5-9EE333EB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D46F86-4F98-4D6B-9FEF-04D6503A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8B9664-B9D0-4564-B16C-080FA4BD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09D44D-DCA9-497B-AC6B-51A4DEEF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EB31AE-721A-4BC9-A3EC-C5D1DA906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4302EA-DCA1-48A0-8589-AC878E9D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D1B9EF-5C20-4801-85D5-F533139E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2E6F64-1034-4055-A369-C0BA2F9F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C33833-2521-47ED-BCBE-7E705D8B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3A9A34-C0DA-460F-BAA5-4CD47E03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E112CD-3F55-4B18-AA2C-49B7C3CA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7A390A-D09B-4BA9-85D5-615AB9B4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2FF586-CA74-4E57-8AE3-CF992392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568CCC-1397-474C-AD4E-4432579B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95D59D-6DF9-43D9-A363-F94BCFF8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4625C0-9EC8-4F9C-8A54-E770EED7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12F91C-1340-4E93-BFDC-EC914C80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A15E29-9775-4478-8D64-0C041D3F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07AAFD-E5E2-46E3-93B6-D94CB93A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40BBEC-2133-4097-AAB3-2A624273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F6A201-C749-46A8-9FA5-8202F32E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06C51A-0D23-4EC4-9FB1-54FFA6A5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BB255A-9A55-472A-8897-97FED1A5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1C8C72-DA2D-4D27-AA7C-CB7B9B02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1617DB-5C53-4B4D-9312-2FC75462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3FB097-CA4A-4FD5-B7EC-A74437B2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983C13-232B-4C2E-ACEF-59D5ADFD7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57EB5F-1D71-43BB-A0D6-C31CE565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A368E5-D3F5-44A0-9BB0-F3B1D098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BA47B2-111A-4093-AC6B-794A4BCB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68FD8D-1327-4615-B812-A145DF87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012 MDS National Con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7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F3A4-3FFD-4CAB-9437-916771544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406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D908-D1B4-4DFB-B224-5BAD6AACE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B7B3-A53B-41ED-A887-20F1CE6B64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451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D4E1-FFC9-4B6C-8B9A-C1D51CA73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30DF-4EE5-441D-9FAD-2AAFF2AE08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496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E955-5AB0-4BE6-9AD4-3EBD9425A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4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31E2-EBF1-4660-B1BD-741EB6350D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C3C5-49DB-44D7-9FCD-B251AB6422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98FA-F13C-4D32-9F6F-D163379C9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7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82E0-1F62-48C8-8B67-AC576CF31E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66B5-7CDD-4B52-8472-15A501FF4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A201-8E4A-4010-9289-6F117EBFB8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CD6A-E251-44DC-B788-62B397506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2658-AE74-4011-9E64-5CE0FCB5AB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9E76-0981-4DDD-8470-39DF746E0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6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74F5-9D7D-43F3-B01B-F9A5FB601C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761F-24AF-4D10-9F05-F56637E73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B90B-B052-402F-91AC-008EEB56CE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F5EA-C36A-4622-A492-5657451C2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FED0-418C-479D-89B1-D3E9281033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361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33AB-9E0A-4DD2-9876-3F37B1D8B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9D8B-4E39-4D68-94A1-C370ACBFF8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cms.gov/nursinghomequalityinits/30_nhqimds30technicalinformation.asp" TargetMode="External"/><Relationship Id="rId2" Type="http://schemas.openxmlformats.org/officeDocument/2006/relationships/hyperlink" Target="https://www.qtso.com/mds30.html" TargetMode="External"/><Relationship Id="rId3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s://www.qtso.com/mds30.html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Garamond"/>
              </a:rPr>
              <a:t>MDS 3.0 Errors and Reports – Don’t Let Them Trip You Up</a:t>
            </a:r>
            <a:endParaRPr b="0" lang="en-US" sz="4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port Header Information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ssio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ssion Date/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ssion ID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ter User ID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ssion File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y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Code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y ID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y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Information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Completion Date/Ti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# Records in Submission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Invalid Rec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# Records Processed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roduction Records Accep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# Production Records Rejected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roduction Duplicate Records: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roduction Records Submitted  Without Facility Authority: (useri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roduction Records Submitted  But Not Allowed   (subreq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# of Messages for Production Recor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Report Header: Submission &amp; Facility Information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8088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Submission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S 3.0 NH Final Validation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Date/Ti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/22/2012 14:06: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Completion Date/Ti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/22/2011215:15: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I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9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File Status:                      Comple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Cod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I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94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ter User I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TEST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Report Header: Processing Information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 Submission Repo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S 3.0 NH Final Validation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Records in Submission Fi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Invalid Record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Records Process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duction Records Accep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duction Records Rejec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duction Duplicate Record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duction Records Submit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Facility Authorit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duction Records Submit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t Allow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# of Message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Record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cord Header Information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processing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mt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(last, fir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_Int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050 (type of transaction) – changed 4/1/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200 (type of provider cod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 Subset Code (IS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A (OBRA RF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B (PPS R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C (PPS OMRA RF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D (SB clinical ch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E (first assessmen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F (entry/discharge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G (type of discharge) – new 4/1/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1100E (attestation date) Data Spec Version #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File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cord Header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cord:  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cepte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   Record In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mt_ID:  317144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Name:  TEST1, MDSname1 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s_Int_ID:  15766136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SSN:  899741056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formati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0200:      1   A0310A: 99    Target Date:  04/14/201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0310B: 01   A0310C:    0    Production/Test Indicator:  PRODU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0310D:   ^   A0310E:    1    Attestation Date (X1100E)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0310F: 99   A0310G:    ^    Type of Transaction (A0050):  NEW RECOR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tem Subset Code:  NP         Data Specs Version #:  1.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ML File Name:                     IN_FAC11940000_RES09434_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20729_A00_NP199990_01.xm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cord Detail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ight Arrow 5"/>
          <p:cNvSpPr/>
          <p:nvPr/>
        </p:nvSpPr>
        <p:spPr>
          <a:xfrm>
            <a:off x="4724280" y="1752480"/>
            <a:ext cx="685800" cy="889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9999"/>
          </a:solidFill>
          <a:ln w="381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ight Brace 6"/>
          <p:cNvSpPr/>
          <p:nvPr/>
        </p:nvSpPr>
        <p:spPr>
          <a:xfrm>
            <a:off x="6629400" y="2209680"/>
            <a:ext cx="304920" cy="61920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619200"/>
              <a:gd name="textAreaBottom" fmla="*/ 611280 h 61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43"/>
                  <a:pt x="10800" y="886"/>
                </a:cubicBezTo>
                <a:lnTo>
                  <a:pt x="10800" y="9914"/>
                </a:lnTo>
                <a:cubicBezTo>
                  <a:pt x="10800" y="10357"/>
                  <a:pt x="16200" y="10800"/>
                  <a:pt x="21600" y="10800"/>
                </a:cubicBezTo>
                <a:cubicBezTo>
                  <a:pt x="16200" y="10800"/>
                  <a:pt x="10800" y="11243"/>
                  <a:pt x="10800" y="11686"/>
                </a:cubicBezTo>
                <a:lnTo>
                  <a:pt x="10800" y="20714"/>
                </a:lnTo>
                <a:cubicBezTo>
                  <a:pt x="10800" y="2115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304920" y="2971800"/>
            <a:ext cx="8534160" cy="2438280"/>
          </a:xfrm>
          <a:prstGeom prst="rect">
            <a:avLst/>
          </a:prstGeom>
          <a:noFill/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7" name="Straight Arrow Connector 8"/>
          <p:cNvCxnSpPr/>
          <p:nvPr/>
        </p:nvCxnSpPr>
        <p:spPr>
          <a:xfrm>
            <a:off x="4343040" y="5410080"/>
            <a:ext cx="1080" cy="354960"/>
          </a:xfrm>
          <a:prstGeom prst="straightConnector1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Error Message Information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53352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S 3.0 Item(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items to which the error message per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Data Submit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s the submitted values of the items listed in the MDS 3.0 Item(s)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the unique message number and type of message (fatal/warning).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the text of the me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Error Message Exampl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29000" indent="-342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S 3.0 Item(s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Date, A0050, Z0500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9000" indent="-342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Data Submitte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3/21/2011, 1, 01/20/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9000" indent="-342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810d      W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9000" indent="-342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Submitted Late: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date is more than 14 days after Z0500B on this new (A0050 equals 1)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9000" indent="-342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Error Message Exampl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S 3.0 Item(s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0100A, RECALCULATED_Z0100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Data Submitte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160, BA1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616a       WARNING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rect HIPPS/RUG Value: The submitted value of the HIPPS/RUG code does not match the value calculated by the QIES ASAP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Garamond"/>
              </a:rPr>
              <a:t>Various Destinations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Error Messag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record is edited for potential iss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 of Error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al  -  “Really Bad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is not accepted into ASAP system, i.e. rejec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correct record and submit ‘new’ rec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nings  -  “Issue” to  “Information Aler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is accepted into ASAP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uld determine if need to address/fix someth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The Itinerar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ssion Status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y Final Validatio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al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ASPER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Software Functionality Issu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entry software should be ensuring that the data entered is compliant with the Data Specif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 to allowing submission of a record, the software shou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all active items are compl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the data is compliant with all ed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errors/messages to the user for missing items and failed 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Error Messag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Fatal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Flow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/Software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Warning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and Sequencin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al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ost Common Fatal Error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007 Duplicate Assess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mitted record is a duplicate of a previously submitted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030 Missing Ite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upon the Item Subset Code (ISC) submitted in this record, this item is requi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676 Invalid Valu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submitted for this item is not an acceptable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ost Common Fatal Error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573a Inconsistent D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spcAft>
                <a:spcPts val="4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date listed must be prior to or the same as the second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93a Invalid FAC_I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spcAft>
                <a:spcPts val="4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C_ID submitted in this file does not identify a valid provider in the QIES ASAP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693b Unauthorized Submitt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spcAft>
                <a:spcPts val="4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mitter's User ID is not authorized to submit data on behalf of the provider identified by the FAC ID in this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ost Common Fatal Error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3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658 No Authority to Collect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cy rights require federal and/or state authority to collect MDS data.  There is no authority to collect the data submitted.  Data was not accep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004 Invalid XML File Forma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ubmitted file is not structured properly or contains tags longer than 30 characters and cannot be process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ost Common Fatal Error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4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668b Inconsistent O I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2300 minus A1600 is less than or equal to 13 days, then items O0100A1 through O0100Z1 in Column 1 must equal 0, 1, or dash (-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783 Inconsistent X08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mitted modification value submitted in X0800 is not incremented by one (1) from the previously submitted modification value for this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Work Flow Fatal Error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licate Record (-1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does not know which files were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ading validation report(s)/activity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ing in original rather than a modification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uthorized submitter (corporate,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y)      (-3693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uthority to collect (sub-req) (-36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User/Software Fatal Error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ted value is incorr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understood the question/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entry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ignored/overrode the issued software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n’t answer (code) required i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didn’t issue error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Garamond"/>
              </a:rPr>
              <a:t>User/Software Fatal Error Examples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sistent Dates (date or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spcAft>
                <a:spcPts val="300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573a, -3573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Skip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spcBef>
                <a:spcPts val="300"/>
              </a:spcBef>
              <a:spcAft>
                <a:spcPts val="300"/>
              </a:spcAft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704b, -3612a, -3528c, -3779a, -3809, -3779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sistent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spcAft>
                <a:spcPts val="300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668b, -3752, -3608, -3752, -3559b, -3557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spcAft>
                <a:spcPts val="300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3691, -3676,  -36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spcAft>
                <a:spcPts val="300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0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Software Fatal Error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zipping the submission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ssion record format in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cluding required control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ccurate calculation of Item Subset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rect formatting of date or ICD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Planning the Journe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revie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y Final Validation Report (FFV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Section 5 of the Provider User’s Guide han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e intimid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MDS 3.0 reports, a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Software Fatal Error Exampl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ssion file not zipped (-1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not in correct XML format (-1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cluded all required control items (-1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_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_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 code does not match A0310 values (-379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 Format (dates, ICD codes, text values, numbers) (-3677, -3591, -3570, -3688,-37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Garamond"/>
              </a:rPr>
              <a:t>Common Warning Messages</a:t>
            </a:r>
            <a:r>
              <a:rPr b="1" lang="en-US" sz="4000" spc="-1" strike="noStrike" baseline="-25000">
                <a:solidFill>
                  <a:srgbClr val="003399"/>
                </a:solidFill>
                <a:latin typeface="Garamond"/>
              </a:rPr>
              <a:t>1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806 Inconsistent A0100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submitted for A0100C (State Provider Number) does not match the State Provider Number in the QIES ASAP System for the provider identified by the FAC_ID in the fi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031 Resident Information Update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nt identifying data submitted in this item is not the same as the data previously submitted for this resident.  Verify that the new information is cor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Common Warning Messag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32 Resident Provider Upd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records indicated that a different provider previously cared for this resident.  The provider associated with this resident was updated.  Please verif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60 Medicare FY2011 RUG IV Transition RUG Calculat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dicare FY2011 Transition RUG IV was calculated for this assess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616b Incorrect RUG Logic Ver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bmitted value of the RUG version code does not match the value calculated by the QIES ASAP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Common Warning Messag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3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808 Missing/Invalid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quired Section S item is either missing or contains invalid data. Number fields must be unsig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616a Incorrect HIPPS/RUG Val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mitted value of the HIPPS/RUG code does not match the value calculated by the QIES ASAP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Common Warning Messag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4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810d Record Submitted 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bmission date is more than 14 days after Z0500B on this new (X0100 equals 1) assess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18 Inconsistent Record Sequ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CMS sequencing guidelines, the type of assessment in this record does not logically follow the type of assessment in the record received prior to this 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749a Assessment Completed 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0500B (assessment completion date) is more than 14 days after A2300 (assessment reference da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Timing and Sequencing Messag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Assessment (-3759a-e, -3810a-e, -10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ubmitted and accepted within 14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nsistent Record Sequence (-10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complete an entry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complete/submit a discharge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complete/submit a required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resident and not an entry record (-10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Informational Error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 resident information (-10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to make sure new resident information is correc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PPS/RUG code doesn’t match (-3616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 the ASAP recalculated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PPS/RUG version doesn’t match (-3616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or software using different RUGS (logic) version of the RUGS than ASAP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Fiscal Year RUG code calculated  (-1059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Communication Error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sistent A0100C  (-3806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Provider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y submitted a blank in the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gency did not enter number in the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gency and facility have a different number of leading zeros on th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r numbers do not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State - 4963, facility – 0004963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from the database is displayed in the error message (Current Value).  If facility thinks the number is wrong, then they should contact their state ag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Garamond"/>
              </a:rPr>
              <a:t>Supplemental Excursions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port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ter Validation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Admission/Re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Assessments with Error Number 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Dis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Error Detail by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Error Number Summary by Facility by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Garamond"/>
              </a:rPr>
              <a:t>Beginning the Journey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port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Errors by Field by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Missing OBRA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NH Assessment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RFA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Ro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Submission Statistics by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Vendor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Submitter Validation Repor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ly need to r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should be on FFV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when FFVR for the submission lists fewer records than were submitted in the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AP system could not read missing record.  (-1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AP system could not identify facility of record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1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run by submitter of the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Activity Repor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633" name="Content Placeholder 2" descr=""/>
          <p:cNvPicPr/>
          <p:nvPr/>
        </p:nvPicPr>
        <p:blipFill>
          <a:blip r:embed="rId1"/>
          <a:stretch/>
        </p:blipFill>
        <p:spPr>
          <a:xfrm>
            <a:off x="420840" y="1542960"/>
            <a:ext cx="826596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Admission/Reentr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635" name="Content Placeholder 2" descr=""/>
          <p:cNvPicPr/>
          <p:nvPr/>
        </p:nvPicPr>
        <p:blipFill>
          <a:blip r:embed="rId1"/>
          <a:stretch/>
        </p:blipFill>
        <p:spPr>
          <a:xfrm>
            <a:off x="420840" y="1542960"/>
            <a:ext cx="83088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MDS 3.0 Assessments with Error Number XXXX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sts the assessments submitted with a specified error for a facility during a specified timefra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o identify assessments with certain fatal errors that were submitted that need to be corrected and resubmit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o determine which assessments were not completed under CMS timing rules (i.e., OBRA quarterly and yearly rul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o identify a pattern with coding or an area in need of trai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o identify software-related err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Discharg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the residents discharged (A0310F = 10, 11, or 12) from a facility during a specified timefr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discharged resident appears on the MDS 3.0 Roster report, use this report to determine if discharge was accepted in the ASAP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derive a list of all residents discharged since the last survey or other time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monthly or more frequ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Error Detail by Facilit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641" name="Content Placeholder 2" descr=""/>
          <p:cNvPicPr/>
          <p:nvPr/>
        </p:nvPicPr>
        <p:blipFill>
          <a:blip r:embed="rId1"/>
          <a:stretch/>
        </p:blipFill>
        <p:spPr>
          <a:xfrm>
            <a:off x="433440" y="1163520"/>
            <a:ext cx="8435880" cy="50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MDS 3.0 Error Number Summary by Facility by Vendor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s the errors encountered on assessments submitted by or on behalf of a facility during a specified timefra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determine vendor specific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Errors by Field by Facilit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the errors encountered in the fields of successful submissions made by or on behalf of a facility during a specified timefra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determine training needs within facil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identify potential software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Garamond"/>
              </a:rPr>
              <a:t>MDS 3.0 Missing OBRA Assessment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s the residents in select facilities for whom the target date of the most recent OBRA assessment (other than a discharge or death record) is more than 138 days prior to the report run d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port also includes residents for whom no OBRA record was submitted for a current episode that began more than 60 days prior to the report run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s a QA tool to ensure all assessment have been successfully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Submission Statu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920" y="53341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sts all files submitted by the user logged into the submission status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Content Placeholder 8" descr="Image of List of My Submissions page.  The columns titled Total Record Count and Status are highlighted."/>
          <p:cNvPicPr/>
          <p:nvPr/>
        </p:nvPicPr>
        <p:blipFill>
          <a:blip r:embed="rId1"/>
          <a:stretch/>
        </p:blipFill>
        <p:spPr>
          <a:xfrm>
            <a:off x="762120" y="1066680"/>
            <a:ext cx="7543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NH Assessment Prin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the assessment items submitted on the assessment with the selected Assessment 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to problem so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RFA Statistic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s for a facility the reasons for assessment for accepted assessments submitted during a specified timefr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monitor /evaluate workload during an identified time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Roster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residents of a facility for whom the latest accepted, federally required assessment is not a Discharge assessment. (A0310F = 10, 11, or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determine a list of all current residents at time of surv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s a QA tool to ensure all current residents have an entry record and all discharge residents have a discharge record in the ASAP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MDS 3.0 Submission Statistics by Facility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s the submissions made by or on behalf of a facility during a specified timefr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to determine workload during a specified time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Vendor Lis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all current vendors for select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determine active vendors within a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Garamond"/>
              </a:rPr>
              <a:t>Home Stretch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ferenc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Data Submission Specifications on the CMS MDS 3.0 web site at </a:t>
            </a:r>
            <a:r>
              <a:rPr b="0" lang="en-US" sz="28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http://www.cms.gov/nursinghomequalityinits/30_nhqimds30technicalinformation.asp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Data Set (MDS) 3.0 Provider User’s Guide on the QTSO MDS 3.0 web site at </a:t>
            </a:r>
            <a:r>
              <a:rPr b="0" lang="en-US" sz="2800" spc="-1" strike="noStrike" u="sng">
                <a:solidFill>
                  <a:srgbClr val="4c6d80"/>
                </a:solidFill>
                <a:uFillTx/>
                <a:latin typeface="Arial"/>
                <a:hlinkClick r:id="rId2"/>
              </a:rPr>
              <a:t>https://www.qtso.com/mds30.ht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5 contains the error and warning mess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ferenc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PER Reporting User’s Guide for MDS Providers at        </a:t>
            </a:r>
            <a:r>
              <a:rPr b="0" lang="en-US" sz="28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https://www.qtso.com/mds30.ht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6 contains MDS 3.0 NH provider reports (section 8 is swing bed provider repor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7 contains the MDS 3.0 NH final validation report (section 9 is swing bed final validation repor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10 contains MDS 3.0 submitter validation re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Zero Records Processed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 FILE - Fatal Fil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cannot be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cords in ZIP file can be extr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acility Final Validatio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your vend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not per specif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One or More Records Processed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y Final Validation Report  (FFV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ally gener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ed into CASPER fol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viewed by anyone with a submitter user ID for that fac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each record proces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ed or rej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Final Validation Report Location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n to CASPER, go to F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 LTC fac_id V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contains facility validation r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d mmddyyyyhhmmss.submission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ddyyyy is the submission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hmmss is the submission time (24 hour time: hour, minutes, seco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ssion ID is the submission ID of the submission f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- 01132012142046.2628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ted on 01/13/2012 at 14:20:46 (2:20 pm), ID = 2628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FFVR Repor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Heade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Heade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specific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 Messag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3:06:59Z</dcterms:created>
  <dc:creator>Mary Sowers</dc:creator>
  <dc:description/>
  <dc:language>en-US</dc:language>
  <cp:lastModifiedBy>Jennifer Parrish</cp:lastModifiedBy>
  <cp:lastPrinted>2012-02-16T20:10:47Z</cp:lastPrinted>
  <dcterms:modified xsi:type="dcterms:W3CDTF">2012-03-19T02:55:14Z</dcterms:modified>
  <cp:revision>55</cp:revision>
  <dc:subject/>
  <dc:title>Functions in Support of Self-Dire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7827630</vt:r8>
  </property>
  <property fmtid="{D5CDD505-2E9C-101B-9397-08002B2CF9AE}" pid="3" name="_AuthorEmail">
    <vt:lpwstr>Renee.Henry@cms.hhs.gov</vt:lpwstr>
  </property>
  <property fmtid="{D5CDD505-2E9C-101B-9397-08002B2CF9AE}" pid="4" name="_AuthorEmailDisplayName">
    <vt:lpwstr>Henry, Renee G (CMS/OCSQ)</vt:lpwstr>
  </property>
  <property fmtid="{D5CDD505-2E9C-101B-9397-08002B2CF9AE}" pid="5" name="_EmailSubject">
    <vt:lpwstr>Update for the training page</vt:lpwstr>
  </property>
  <property fmtid="{D5CDD505-2E9C-101B-9397-08002B2CF9AE}" pid="6" name="_NewReviewCycle">
    <vt:lpwstr/>
  </property>
</Properties>
</file>