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8.wmf" ContentType="image/x-wmf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C690-5A39-4E78-A4C5-5E8DCA90B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1A0E-7E41-486B-B053-9BADB5941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BB09-1C43-4754-B8D8-1B9E9D0D4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8168-37C9-47DF-A2E8-DA04CA2BC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096B-572B-4912-ADFB-619FC5579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8A23-1117-4A40-B214-954D37C99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262E-F167-48E5-A578-A1A3F9AC3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B5AE-3925-4389-9538-FC7EC0DF8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29FE-9D04-43F2-9159-8E696DEB6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B5F0-339F-4CA2-8AC0-40BCD4A02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5F75-63A4-43C5-82E1-27C19CE48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E0BC-4159-43AB-86B1-5CF1B49C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D0B86-25AF-4BCC-BC50-4B8778F1E6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Kimpel Sympos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ne 18,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ional Weather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an, 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Historical 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6705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 John Snow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an, College of Atmospheric and Geographic Scien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ational Weather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 Renee McPherson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im State Climatologi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klahoma Climate Surv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 Kelvin Droegemeier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 VP for Resear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enter for the Analysis and Prediction of St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 Peter Lam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or of CIMMS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RM Climate Research Fac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hn Heimm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O Parte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hased Array Rad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 Fred Car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or, School of Meteorolog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chool of Meteor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048440" y="1143000"/>
            <a:ext cx="1104840" cy="11048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120160" y="3657600"/>
            <a:ext cx="947520" cy="12193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7997760" y="1905120"/>
            <a:ext cx="1019160" cy="1218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7270920" y="2819520"/>
            <a:ext cx="882360" cy="1218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7467480" y="4648320"/>
            <a:ext cx="995400" cy="10666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8062920" y="5486400"/>
            <a:ext cx="1001880" cy="13716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uture Outl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uglas Forsy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Chief RRDD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adar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r David Stensru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Chief FRDD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arn-on-Fore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r David Jorgensen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ief WRDD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ydrometeor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51754" t="42895" r="16811" b="12674"/>
          <a:stretch/>
        </p:blipFill>
        <p:spPr>
          <a:xfrm>
            <a:off x="7031160" y="1143000"/>
            <a:ext cx="1807920" cy="18288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010280" y="3276720"/>
            <a:ext cx="1828800" cy="14857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7010280" y="4992840"/>
            <a:ext cx="1828800" cy="15062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losing Rema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r Alexander MacDonal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uty Assistant Administrator for Oceans and Atmospheric Research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ma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r James “Jeff” Kimpe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SSL Director (retired)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sponse and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pm – Reception in Atr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467480" y="3733920"/>
            <a:ext cx="1575000" cy="2361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467480" y="1143000"/>
            <a:ext cx="1623960" cy="23623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514600" y="304920"/>
            <a:ext cx="4064040" cy="60958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ease Thank Today’s Spons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895480" y="2438280"/>
            <a:ext cx="346716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5T03:20:28Z</dcterms:created>
  <dc:creator>kevin.kelleher</dc:creator>
  <dc:description/>
  <dc:language>en-US</dc:language>
  <cp:lastModifiedBy>kevin.kelleher</cp:lastModifiedBy>
  <dcterms:modified xsi:type="dcterms:W3CDTF">2010-06-18T16:23:32Z</dcterms:modified>
  <cp:revision>8</cp:revision>
  <dc:subject/>
  <dc:title>Kimpel Symposium</dc:title>
</cp:coreProperties>
</file>